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C2E9-C42B-47B5-A831-71CC7F20FF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4 – Смертность взрослого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5 – Заболеваемость насе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6 – Социопатия (алкоголизм, наркома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7 - Доступность кач. мед. помо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8 – Производственный и бытовой травматиз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4 – Доля населения со среднедушевыми доходами ниже минимального потребительс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6 – Степень поляризации среднедушевых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 – Укомплектованность ср. учебных заведений педагогическими кад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 – Ресурсы амбулаторно-поликлинической и больничной се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 – возможности молодёжи поступить на учёбу в высшие и ср. спец. Учебные за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 – доступность услуг культ.-образовательного харак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 – Доступность газет, журналов,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д 3 – Уровень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д 5 – Образование,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д 8 - Эк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д 1 – демограф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д 7 – Молодёж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д 8 - Эк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1 – воспроизводство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5 – Заболеваем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6 - Социопатия (алкоголизм. наркомания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8 – Производственный и бытовой травматизм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7 – Доступность качественной медицинской помо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8 – Производственный и бытовой травматизм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931-6CAA-4758-89AF-79D49F1E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BEB-6052-4DFA-BC9F-D0F0C117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3F3-5C09-42E3-98E2-41DEADE0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F0B-BD4A-429B-915C-5BCB9788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CA2-3884-4EFC-9DE6-1CC9B84C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679-EA2A-4CC1-A87E-065DAF5A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598-8E73-481E-8CA2-AC9BEECF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57F-8006-4512-823F-13D38075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22C-6A3F-48EA-8A95-5603753D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E6E-A69C-4061-B487-DDAC921A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184-1EEE-4D51-AA18-1061C693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B678-3762-4585-8EC9-6641C1F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38D2-A971-49EB-9F6A-3E56941AA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762120" y="380880"/>
            <a:ext cx="7848360" cy="6019560"/>
            <a:chOff x="762120" y="380880"/>
            <a:chExt cx="7848360" cy="6019560"/>
          </a:xfrm>
        </p:grpSpPr>
        <p:sp>
          <p:nvSpPr>
            <p:cNvPr id="49" name=""/>
            <p:cNvSpPr/>
            <p:nvPr/>
          </p:nvSpPr>
          <p:spPr>
            <a:xfrm>
              <a:off x="3295440" y="1690920"/>
              <a:ext cx="2864520" cy="470952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120" y="380880"/>
              <a:ext cx="7848360" cy="69084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 Black"/>
                  <a:ea typeface="Times New Roman"/>
                </a:rPr>
                <a:t>ГЛОБАЛЬНЫЕ ПРОЦЕССЫ В МИ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2444400" y="1138320"/>
              <a:ext cx="356040" cy="571320"/>
            </a:xfrm>
            <a:custGeom>
              <a:avLst/>
              <a:gdLst>
                <a:gd name="textAreaLeft" fmla="*/ 44280 w 356040"/>
                <a:gd name="textAreaRight" fmla="*/ 311760 w 356040"/>
                <a:gd name="textAreaTop" fmla="*/ 142920 h 571320"/>
                <a:gd name="textAreaBottom" fmla="*/ 42876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 rot="16200000">
              <a:off x="6688440" y="1137600"/>
              <a:ext cx="356040" cy="570960"/>
            </a:xfrm>
            <a:custGeom>
              <a:avLst/>
              <a:gdLst>
                <a:gd name="textAreaLeft" fmla="*/ 44280 w 356040"/>
                <a:gd name="textAreaRight" fmla="*/ 311760 w 356040"/>
                <a:gd name="textAreaTop" fmla="*/ 142560 h 570960"/>
                <a:gd name="textAreaBottom" fmla="*/ 428400 h 57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98920" y="1442520"/>
              <a:ext cx="2137320" cy="24840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Arial Black"/>
                  <a:ea typeface="Times New Roman"/>
                </a:rPr>
                <a:t>РОССИ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762120" y="4664520"/>
              <a:ext cx="7848360" cy="1559160"/>
              <a:chOff x="762120" y="4664520"/>
              <a:chExt cx="7848360" cy="1559160"/>
            </a:xfrm>
          </p:grpSpPr>
          <p:sp>
            <p:nvSpPr>
              <p:cNvPr id="55" name=""/>
              <p:cNvSpPr/>
              <p:nvPr/>
            </p:nvSpPr>
            <p:spPr>
              <a:xfrm>
                <a:off x="762120" y="4664520"/>
                <a:ext cx="7848360" cy="155916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d60093"/>
                    </a:solidFill>
                    <a:latin typeface="Times New Roman"/>
                    <a:ea typeface="Times New Roman"/>
                  </a:rPr>
                  <a:t>СОЦИАЛЬНЫЕ РЕСУРСЫ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35960" y="520848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35960" y="611100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35960" y="581004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35960" y="548748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62120" y="3233520"/>
              <a:ext cx="7848360" cy="1291680"/>
              <a:chOff x="762120" y="3233520"/>
              <a:chExt cx="7848360" cy="1291680"/>
            </a:xfrm>
          </p:grpSpPr>
          <p:sp>
            <p:nvSpPr>
              <p:cNvPr id="61" name=""/>
              <p:cNvSpPr/>
              <p:nvPr/>
            </p:nvSpPr>
            <p:spPr>
              <a:xfrm>
                <a:off x="762120" y="3233520"/>
                <a:ext cx="7848360" cy="1291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d60093"/>
                    </a:solidFill>
                    <a:latin typeface="Times New Roman"/>
                    <a:ea typeface="Times New Roman"/>
                  </a:rPr>
                  <a:t>ЧЕЛОВЕЧЕСКИЕ РЕСУРСЫ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35960" y="377928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35960" y="410256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35960" y="438048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62120" y="1811880"/>
              <a:ext cx="7848360" cy="1291680"/>
              <a:chOff x="762120" y="1811880"/>
              <a:chExt cx="7848360" cy="1291680"/>
            </a:xfrm>
          </p:grpSpPr>
          <p:sp>
            <p:nvSpPr>
              <p:cNvPr id="66" name=""/>
              <p:cNvSpPr/>
              <p:nvPr/>
            </p:nvSpPr>
            <p:spPr>
              <a:xfrm>
                <a:off x="762120" y="1811880"/>
                <a:ext cx="7848360" cy="1291680"/>
              </a:xfrm>
              <a:prstGeom prst="rect">
                <a:avLst/>
              </a:prstGeom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d60093"/>
                    </a:solidFill>
                    <a:latin typeface="Century Gothic"/>
                    <a:ea typeface="Times New Roman"/>
                  </a:rPr>
                  <a:t>МАТЕРИАЛЬНЫЕ РЕСУРСЫ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35960" y="235764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35960" y="268128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35960" y="2958840"/>
                <a:ext cx="4919040" cy="0"/>
              </a:xfrm>
              <a:prstGeom prst="line">
                <a:avLst/>
              </a:prstGeom>
              <a:ln w="32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1600200" y="1676520"/>
            <a:ext cx="5791320" cy="3809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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,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,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0,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3360"/>
                <a:tab algn="l" pos="1212840"/>
                <a:tab algn="l" pos="1822320"/>
                <a:tab algn="l" pos="2432160"/>
                <a:tab algn="l" pos="3041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Таблица</a:t>
            </a: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динамики уровня жизни населения (код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247644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380880" y="1066680"/>
          <a:ext cx="8382240" cy="53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382240" cy="53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>
            <a:off x="1295280" y="57913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.1     1.2      1.3      1.4      1.5     1.6      1.7     1.8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Гистограмма динамики уровня жизни населения (код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219320" y="1600200"/>
            <a:ext cx="6781680" cy="0"/>
          </a:xfrm>
          <a:prstGeom prst="line">
            <a:avLst/>
          </a:prstGeom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247644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380880" y="1371600"/>
          <a:ext cx="845820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5820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1" name=""/>
          <p:cNvSpPr/>
          <p:nvPr/>
        </p:nvSpPr>
        <p:spPr>
          <a:xfrm>
            <a:off x="8534520" y="335268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21932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1     3.2      3.3     3.4      3.5     3.6     3.7      3.8     код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990720" y="533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Экспертный прогноз изменения уровня жизни населения (код 3)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0 – текущее состоя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219320" y="4038480"/>
            <a:ext cx="662940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990720" y="1905120"/>
            <a:ext cx="6288840" cy="4419000"/>
            <a:chOff x="990720" y="1905120"/>
            <a:chExt cx="6288840" cy="4419000"/>
          </a:xfrm>
        </p:grpSpPr>
        <p:grpSp>
          <p:nvGrpSpPr>
            <p:cNvPr id="1187" name=""/>
            <p:cNvGrpSpPr/>
            <p:nvPr/>
          </p:nvGrpSpPr>
          <p:grpSpPr>
            <a:xfrm>
              <a:off x="990720" y="1905120"/>
              <a:ext cx="1257480" cy="441720"/>
              <a:chOff x="990720" y="1905120"/>
              <a:chExt cx="1257480" cy="441720"/>
            </a:xfrm>
          </p:grpSpPr>
          <p:sp>
            <p:nvSpPr>
              <p:cNvPr id="1188" name=""/>
              <p:cNvSpPr/>
              <p:nvPr/>
            </p:nvSpPr>
            <p:spPr>
              <a:xfrm>
                <a:off x="990720" y="19051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990720" y="19051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2248560" y="1905120"/>
              <a:ext cx="1257120" cy="441720"/>
              <a:chOff x="2248560" y="1905120"/>
              <a:chExt cx="1257120" cy="441720"/>
            </a:xfrm>
          </p:grpSpPr>
          <p:sp>
            <p:nvSpPr>
              <p:cNvPr id="1191" name=""/>
              <p:cNvSpPr/>
              <p:nvPr/>
            </p:nvSpPr>
            <p:spPr>
              <a:xfrm>
                <a:off x="2248560" y="19051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248560" y="19051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506400" y="1905120"/>
              <a:ext cx="1257480" cy="441720"/>
              <a:chOff x="3506400" y="1905120"/>
              <a:chExt cx="1257480" cy="441720"/>
            </a:xfrm>
          </p:grpSpPr>
          <p:sp>
            <p:nvSpPr>
              <p:cNvPr id="1194" name=""/>
              <p:cNvSpPr/>
              <p:nvPr/>
            </p:nvSpPr>
            <p:spPr>
              <a:xfrm>
                <a:off x="3506400" y="19051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06400" y="19051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4764240" y="1905120"/>
              <a:ext cx="1257480" cy="441720"/>
              <a:chOff x="4764240" y="1905120"/>
              <a:chExt cx="1257480" cy="441720"/>
            </a:xfrm>
          </p:grpSpPr>
          <p:sp>
            <p:nvSpPr>
              <p:cNvPr id="1197" name=""/>
              <p:cNvSpPr/>
              <p:nvPr/>
            </p:nvSpPr>
            <p:spPr>
              <a:xfrm>
                <a:off x="4764240" y="19051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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64240" y="19051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022440" y="1905120"/>
              <a:ext cx="1257120" cy="441720"/>
              <a:chOff x="6022440" y="1905120"/>
              <a:chExt cx="1257120" cy="441720"/>
            </a:xfrm>
          </p:grpSpPr>
          <p:sp>
            <p:nvSpPr>
              <p:cNvPr id="1200" name=""/>
              <p:cNvSpPr/>
              <p:nvPr/>
            </p:nvSpPr>
            <p:spPr>
              <a:xfrm>
                <a:off x="6022440" y="19051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022440" y="19051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"/>
            <p:cNvGrpSpPr/>
            <p:nvPr/>
          </p:nvGrpSpPr>
          <p:grpSpPr>
            <a:xfrm>
              <a:off x="990720" y="2346840"/>
              <a:ext cx="1257480" cy="441720"/>
              <a:chOff x="990720" y="2346840"/>
              <a:chExt cx="1257480" cy="441720"/>
            </a:xfrm>
          </p:grpSpPr>
          <p:sp>
            <p:nvSpPr>
              <p:cNvPr id="1203" name=""/>
              <p:cNvSpPr/>
              <p:nvPr/>
            </p:nvSpPr>
            <p:spPr>
              <a:xfrm>
                <a:off x="990720" y="23468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,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990720" y="23468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2248560" y="2346840"/>
              <a:ext cx="1257120" cy="441720"/>
              <a:chOff x="2248560" y="2346840"/>
              <a:chExt cx="1257120" cy="441720"/>
            </a:xfrm>
          </p:grpSpPr>
          <p:sp>
            <p:nvSpPr>
              <p:cNvPr id="1206" name=""/>
              <p:cNvSpPr/>
              <p:nvPr/>
            </p:nvSpPr>
            <p:spPr>
              <a:xfrm>
                <a:off x="2248560" y="23468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248560" y="23468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3506400" y="2346840"/>
              <a:ext cx="1257480" cy="441720"/>
              <a:chOff x="3506400" y="2346840"/>
              <a:chExt cx="1257480" cy="441720"/>
            </a:xfrm>
          </p:grpSpPr>
          <p:sp>
            <p:nvSpPr>
              <p:cNvPr id="1209" name=""/>
              <p:cNvSpPr/>
              <p:nvPr/>
            </p:nvSpPr>
            <p:spPr>
              <a:xfrm>
                <a:off x="3506400" y="23468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506400" y="23468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4764240" y="2346840"/>
              <a:ext cx="1257480" cy="441720"/>
              <a:chOff x="4764240" y="2346840"/>
              <a:chExt cx="1257480" cy="441720"/>
            </a:xfrm>
          </p:grpSpPr>
          <p:sp>
            <p:nvSpPr>
              <p:cNvPr id="1212" name=""/>
              <p:cNvSpPr/>
              <p:nvPr/>
            </p:nvSpPr>
            <p:spPr>
              <a:xfrm>
                <a:off x="4764240" y="23468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764240" y="23468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6022440" y="2346840"/>
              <a:ext cx="1257120" cy="441720"/>
              <a:chOff x="6022440" y="2346840"/>
              <a:chExt cx="1257120" cy="441720"/>
            </a:xfrm>
          </p:grpSpPr>
          <p:sp>
            <p:nvSpPr>
              <p:cNvPr id="1215" name=""/>
              <p:cNvSpPr/>
              <p:nvPr/>
            </p:nvSpPr>
            <p:spPr>
              <a:xfrm>
                <a:off x="6022440" y="23468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022440" y="23468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990720" y="2788920"/>
              <a:ext cx="1257480" cy="441720"/>
              <a:chOff x="990720" y="2788920"/>
              <a:chExt cx="1257480" cy="441720"/>
            </a:xfrm>
          </p:grpSpPr>
          <p:sp>
            <p:nvSpPr>
              <p:cNvPr id="1218" name=""/>
              <p:cNvSpPr/>
              <p:nvPr/>
            </p:nvSpPr>
            <p:spPr>
              <a:xfrm>
                <a:off x="990720" y="27889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,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90720" y="27889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2248560" y="2788920"/>
              <a:ext cx="1257120" cy="441720"/>
              <a:chOff x="2248560" y="2788920"/>
              <a:chExt cx="1257120" cy="441720"/>
            </a:xfrm>
          </p:grpSpPr>
          <p:sp>
            <p:nvSpPr>
              <p:cNvPr id="1221" name=""/>
              <p:cNvSpPr/>
              <p:nvPr/>
            </p:nvSpPr>
            <p:spPr>
              <a:xfrm>
                <a:off x="2248560" y="27889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248560" y="27889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3506400" y="2788920"/>
              <a:ext cx="1257480" cy="441720"/>
              <a:chOff x="3506400" y="2788920"/>
              <a:chExt cx="1257480" cy="441720"/>
            </a:xfrm>
          </p:grpSpPr>
          <p:sp>
            <p:nvSpPr>
              <p:cNvPr id="1224" name=""/>
              <p:cNvSpPr/>
              <p:nvPr/>
            </p:nvSpPr>
            <p:spPr>
              <a:xfrm>
                <a:off x="3506400" y="27889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506400" y="27889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"/>
            <p:cNvGrpSpPr/>
            <p:nvPr/>
          </p:nvGrpSpPr>
          <p:grpSpPr>
            <a:xfrm>
              <a:off x="4764240" y="2788920"/>
              <a:ext cx="1257480" cy="441720"/>
              <a:chOff x="4764240" y="2788920"/>
              <a:chExt cx="1257480" cy="441720"/>
            </a:xfrm>
          </p:grpSpPr>
          <p:sp>
            <p:nvSpPr>
              <p:cNvPr id="1227" name=""/>
              <p:cNvSpPr/>
              <p:nvPr/>
            </p:nvSpPr>
            <p:spPr>
              <a:xfrm>
                <a:off x="4764240" y="27889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764240" y="27889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6022440" y="2788920"/>
              <a:ext cx="1257120" cy="441720"/>
              <a:chOff x="6022440" y="2788920"/>
              <a:chExt cx="1257120" cy="441720"/>
            </a:xfrm>
          </p:grpSpPr>
          <p:sp>
            <p:nvSpPr>
              <p:cNvPr id="1230" name=""/>
              <p:cNvSpPr/>
              <p:nvPr/>
            </p:nvSpPr>
            <p:spPr>
              <a:xfrm>
                <a:off x="6022440" y="27889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022440" y="27889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990720" y="3230640"/>
              <a:ext cx="1257480" cy="441720"/>
              <a:chOff x="990720" y="3230640"/>
              <a:chExt cx="1257480" cy="441720"/>
            </a:xfrm>
          </p:grpSpPr>
          <p:sp>
            <p:nvSpPr>
              <p:cNvPr id="1233" name=""/>
              <p:cNvSpPr/>
              <p:nvPr/>
            </p:nvSpPr>
            <p:spPr>
              <a:xfrm>
                <a:off x="990720" y="32306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,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990720" y="32306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2248560" y="3230640"/>
              <a:ext cx="1257120" cy="441720"/>
              <a:chOff x="2248560" y="3230640"/>
              <a:chExt cx="1257120" cy="441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2248560" y="32306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248560" y="32306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"/>
            <p:cNvGrpSpPr/>
            <p:nvPr/>
          </p:nvGrpSpPr>
          <p:grpSpPr>
            <a:xfrm>
              <a:off x="3506400" y="3230640"/>
              <a:ext cx="1257480" cy="441720"/>
              <a:chOff x="3506400" y="3230640"/>
              <a:chExt cx="1257480" cy="441720"/>
            </a:xfrm>
          </p:grpSpPr>
          <p:sp>
            <p:nvSpPr>
              <p:cNvPr id="1239" name=""/>
              <p:cNvSpPr/>
              <p:nvPr/>
            </p:nvSpPr>
            <p:spPr>
              <a:xfrm>
                <a:off x="3506400" y="32306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506400" y="32306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4764240" y="3230640"/>
              <a:ext cx="1257480" cy="441720"/>
              <a:chOff x="4764240" y="3230640"/>
              <a:chExt cx="1257480" cy="441720"/>
            </a:xfrm>
          </p:grpSpPr>
          <p:sp>
            <p:nvSpPr>
              <p:cNvPr id="1242" name=""/>
              <p:cNvSpPr/>
              <p:nvPr/>
            </p:nvSpPr>
            <p:spPr>
              <a:xfrm>
                <a:off x="4764240" y="32306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764240" y="32306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6022440" y="3230640"/>
              <a:ext cx="1257120" cy="441720"/>
              <a:chOff x="6022440" y="3230640"/>
              <a:chExt cx="1257120" cy="441720"/>
            </a:xfrm>
          </p:grpSpPr>
          <p:sp>
            <p:nvSpPr>
              <p:cNvPr id="1245" name=""/>
              <p:cNvSpPr/>
              <p:nvPr/>
            </p:nvSpPr>
            <p:spPr>
              <a:xfrm>
                <a:off x="6022440" y="32306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022440" y="32306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990720" y="3672720"/>
              <a:ext cx="1257480" cy="441720"/>
              <a:chOff x="990720" y="3672720"/>
              <a:chExt cx="1257480" cy="441720"/>
            </a:xfrm>
          </p:grpSpPr>
          <p:sp>
            <p:nvSpPr>
              <p:cNvPr id="1248" name=""/>
              <p:cNvSpPr/>
              <p:nvPr/>
            </p:nvSpPr>
            <p:spPr>
              <a:xfrm>
                <a:off x="990720" y="36727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,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990720" y="36727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2248560" y="3672720"/>
              <a:ext cx="1257120" cy="441720"/>
              <a:chOff x="2248560" y="3672720"/>
              <a:chExt cx="1257120" cy="441720"/>
            </a:xfrm>
          </p:grpSpPr>
          <p:sp>
            <p:nvSpPr>
              <p:cNvPr id="1251" name=""/>
              <p:cNvSpPr/>
              <p:nvPr/>
            </p:nvSpPr>
            <p:spPr>
              <a:xfrm>
                <a:off x="2248560" y="36727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2248560" y="36727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3506400" y="3672720"/>
              <a:ext cx="1257480" cy="441720"/>
              <a:chOff x="3506400" y="3672720"/>
              <a:chExt cx="1257480" cy="441720"/>
            </a:xfrm>
          </p:grpSpPr>
          <p:sp>
            <p:nvSpPr>
              <p:cNvPr id="1254" name=""/>
              <p:cNvSpPr/>
              <p:nvPr/>
            </p:nvSpPr>
            <p:spPr>
              <a:xfrm>
                <a:off x="3506400" y="36727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506400" y="36727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4764240" y="3672720"/>
              <a:ext cx="1257480" cy="441720"/>
              <a:chOff x="4764240" y="3672720"/>
              <a:chExt cx="1257480" cy="441720"/>
            </a:xfrm>
          </p:grpSpPr>
          <p:sp>
            <p:nvSpPr>
              <p:cNvPr id="1257" name=""/>
              <p:cNvSpPr/>
              <p:nvPr/>
            </p:nvSpPr>
            <p:spPr>
              <a:xfrm>
                <a:off x="4764240" y="36727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764240" y="36727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6022440" y="3672720"/>
              <a:ext cx="1257120" cy="441720"/>
              <a:chOff x="6022440" y="3672720"/>
              <a:chExt cx="1257120" cy="441720"/>
            </a:xfrm>
          </p:grpSpPr>
          <p:sp>
            <p:nvSpPr>
              <p:cNvPr id="1260" name=""/>
              <p:cNvSpPr/>
              <p:nvPr/>
            </p:nvSpPr>
            <p:spPr>
              <a:xfrm>
                <a:off x="6022440" y="36727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022440" y="36727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990720" y="4114440"/>
              <a:ext cx="1257480" cy="441720"/>
              <a:chOff x="990720" y="4114440"/>
              <a:chExt cx="1257480" cy="441720"/>
            </a:xfrm>
          </p:grpSpPr>
          <p:sp>
            <p:nvSpPr>
              <p:cNvPr id="1263" name=""/>
              <p:cNvSpPr/>
              <p:nvPr/>
            </p:nvSpPr>
            <p:spPr>
              <a:xfrm>
                <a:off x="990720" y="41144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990720" y="41144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2248560" y="4114440"/>
              <a:ext cx="1257120" cy="441720"/>
              <a:chOff x="2248560" y="4114440"/>
              <a:chExt cx="1257120" cy="441720"/>
            </a:xfrm>
          </p:grpSpPr>
          <p:sp>
            <p:nvSpPr>
              <p:cNvPr id="1266" name=""/>
              <p:cNvSpPr/>
              <p:nvPr/>
            </p:nvSpPr>
            <p:spPr>
              <a:xfrm>
                <a:off x="2248560" y="41144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248560" y="41144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3506400" y="4114440"/>
              <a:ext cx="1257480" cy="441720"/>
              <a:chOff x="3506400" y="4114440"/>
              <a:chExt cx="1257480" cy="441720"/>
            </a:xfrm>
          </p:grpSpPr>
          <p:sp>
            <p:nvSpPr>
              <p:cNvPr id="1269" name=""/>
              <p:cNvSpPr/>
              <p:nvPr/>
            </p:nvSpPr>
            <p:spPr>
              <a:xfrm>
                <a:off x="3506400" y="41144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506400" y="41144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4764240" y="4114440"/>
              <a:ext cx="1257480" cy="441720"/>
              <a:chOff x="4764240" y="4114440"/>
              <a:chExt cx="1257480" cy="441720"/>
            </a:xfrm>
          </p:grpSpPr>
          <p:sp>
            <p:nvSpPr>
              <p:cNvPr id="1272" name=""/>
              <p:cNvSpPr/>
              <p:nvPr/>
            </p:nvSpPr>
            <p:spPr>
              <a:xfrm>
                <a:off x="4764240" y="41144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764240" y="411444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6022440" y="4114440"/>
              <a:ext cx="1257120" cy="441720"/>
              <a:chOff x="6022440" y="4114440"/>
              <a:chExt cx="1257120" cy="441720"/>
            </a:xfrm>
          </p:grpSpPr>
          <p:sp>
            <p:nvSpPr>
              <p:cNvPr id="1275" name=""/>
              <p:cNvSpPr/>
              <p:nvPr/>
            </p:nvSpPr>
            <p:spPr>
              <a:xfrm>
                <a:off x="6022440" y="41144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022440" y="411444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990720" y="4556520"/>
              <a:ext cx="1257480" cy="441720"/>
              <a:chOff x="990720" y="4556520"/>
              <a:chExt cx="1257480" cy="441720"/>
            </a:xfrm>
          </p:grpSpPr>
          <p:sp>
            <p:nvSpPr>
              <p:cNvPr id="1278" name=""/>
              <p:cNvSpPr/>
              <p:nvPr/>
            </p:nvSpPr>
            <p:spPr>
              <a:xfrm>
                <a:off x="990720" y="45565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,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990720" y="45565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0" name=""/>
            <p:cNvGrpSpPr/>
            <p:nvPr/>
          </p:nvGrpSpPr>
          <p:grpSpPr>
            <a:xfrm>
              <a:off x="2248560" y="4556520"/>
              <a:ext cx="1257120" cy="441720"/>
              <a:chOff x="2248560" y="4556520"/>
              <a:chExt cx="1257120" cy="441720"/>
            </a:xfrm>
          </p:grpSpPr>
          <p:sp>
            <p:nvSpPr>
              <p:cNvPr id="1281" name=""/>
              <p:cNvSpPr/>
              <p:nvPr/>
            </p:nvSpPr>
            <p:spPr>
              <a:xfrm>
                <a:off x="2248560" y="45565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,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248560" y="45565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3506400" y="4556520"/>
              <a:ext cx="1257480" cy="441720"/>
              <a:chOff x="3506400" y="4556520"/>
              <a:chExt cx="1257480" cy="441720"/>
            </a:xfrm>
          </p:grpSpPr>
          <p:sp>
            <p:nvSpPr>
              <p:cNvPr id="1284" name=""/>
              <p:cNvSpPr/>
              <p:nvPr/>
            </p:nvSpPr>
            <p:spPr>
              <a:xfrm>
                <a:off x="3506400" y="45565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506400" y="45565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4764240" y="4556520"/>
              <a:ext cx="1257480" cy="441720"/>
              <a:chOff x="4764240" y="4556520"/>
              <a:chExt cx="1257480" cy="441720"/>
            </a:xfrm>
          </p:grpSpPr>
          <p:sp>
            <p:nvSpPr>
              <p:cNvPr id="1287" name=""/>
              <p:cNvSpPr/>
              <p:nvPr/>
            </p:nvSpPr>
            <p:spPr>
              <a:xfrm>
                <a:off x="4764240" y="45565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764240" y="45565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9" name=""/>
            <p:cNvGrpSpPr/>
            <p:nvPr/>
          </p:nvGrpSpPr>
          <p:grpSpPr>
            <a:xfrm>
              <a:off x="6022440" y="4556520"/>
              <a:ext cx="1257120" cy="441720"/>
              <a:chOff x="6022440" y="4556520"/>
              <a:chExt cx="1257120" cy="441720"/>
            </a:xfrm>
          </p:grpSpPr>
          <p:sp>
            <p:nvSpPr>
              <p:cNvPr id="1290" name=""/>
              <p:cNvSpPr/>
              <p:nvPr/>
            </p:nvSpPr>
            <p:spPr>
              <a:xfrm>
                <a:off x="6022440" y="45565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022440" y="45565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2" name=""/>
            <p:cNvGrpSpPr/>
            <p:nvPr/>
          </p:nvGrpSpPr>
          <p:grpSpPr>
            <a:xfrm>
              <a:off x="990720" y="4998600"/>
              <a:ext cx="1257480" cy="441720"/>
              <a:chOff x="990720" y="4998600"/>
              <a:chExt cx="1257480" cy="441720"/>
            </a:xfrm>
          </p:grpSpPr>
          <p:sp>
            <p:nvSpPr>
              <p:cNvPr id="1293" name=""/>
              <p:cNvSpPr/>
              <p:nvPr/>
            </p:nvSpPr>
            <p:spPr>
              <a:xfrm>
                <a:off x="990720" y="49986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,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990720" y="49986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2248560" y="4998600"/>
              <a:ext cx="1257120" cy="441720"/>
              <a:chOff x="2248560" y="4998600"/>
              <a:chExt cx="1257120" cy="441720"/>
            </a:xfrm>
          </p:grpSpPr>
          <p:sp>
            <p:nvSpPr>
              <p:cNvPr id="1296" name=""/>
              <p:cNvSpPr/>
              <p:nvPr/>
            </p:nvSpPr>
            <p:spPr>
              <a:xfrm>
                <a:off x="2248560" y="499860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,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248560" y="499860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3506400" y="4998600"/>
              <a:ext cx="1257480" cy="441720"/>
              <a:chOff x="3506400" y="4998600"/>
              <a:chExt cx="1257480" cy="441720"/>
            </a:xfrm>
          </p:grpSpPr>
          <p:sp>
            <p:nvSpPr>
              <p:cNvPr id="1299" name=""/>
              <p:cNvSpPr/>
              <p:nvPr/>
            </p:nvSpPr>
            <p:spPr>
              <a:xfrm>
                <a:off x="3506400" y="49986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506400" y="49986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"/>
            <p:cNvGrpSpPr/>
            <p:nvPr/>
          </p:nvGrpSpPr>
          <p:grpSpPr>
            <a:xfrm>
              <a:off x="4764240" y="4998600"/>
              <a:ext cx="1257480" cy="441720"/>
              <a:chOff x="4764240" y="4998600"/>
              <a:chExt cx="1257480" cy="441720"/>
            </a:xfrm>
          </p:grpSpPr>
          <p:sp>
            <p:nvSpPr>
              <p:cNvPr id="1302" name=""/>
              <p:cNvSpPr/>
              <p:nvPr/>
            </p:nvSpPr>
            <p:spPr>
              <a:xfrm>
                <a:off x="4764240" y="49986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764240" y="49986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6022440" y="4998600"/>
              <a:ext cx="1257120" cy="441720"/>
              <a:chOff x="6022440" y="4998600"/>
              <a:chExt cx="1257120" cy="441720"/>
            </a:xfrm>
          </p:grpSpPr>
          <p:sp>
            <p:nvSpPr>
              <p:cNvPr id="1305" name=""/>
              <p:cNvSpPr/>
              <p:nvPr/>
            </p:nvSpPr>
            <p:spPr>
              <a:xfrm>
                <a:off x="6022440" y="499860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022440" y="499860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990720" y="5440320"/>
              <a:ext cx="1257480" cy="441720"/>
              <a:chOff x="990720" y="5440320"/>
              <a:chExt cx="1257480" cy="441720"/>
            </a:xfrm>
          </p:grpSpPr>
          <p:sp>
            <p:nvSpPr>
              <p:cNvPr id="1308" name=""/>
              <p:cNvSpPr/>
              <p:nvPr/>
            </p:nvSpPr>
            <p:spPr>
              <a:xfrm>
                <a:off x="990720" y="54403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,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990720" y="54403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2248560" y="5440320"/>
              <a:ext cx="1257120" cy="441720"/>
              <a:chOff x="2248560" y="5440320"/>
              <a:chExt cx="1257120" cy="441720"/>
            </a:xfrm>
          </p:grpSpPr>
          <p:sp>
            <p:nvSpPr>
              <p:cNvPr id="1311" name=""/>
              <p:cNvSpPr/>
              <p:nvPr/>
            </p:nvSpPr>
            <p:spPr>
              <a:xfrm>
                <a:off x="2248560" y="54403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,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248560" y="54403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3506400" y="5440320"/>
              <a:ext cx="1257480" cy="441720"/>
              <a:chOff x="3506400" y="5440320"/>
              <a:chExt cx="1257480" cy="441720"/>
            </a:xfrm>
          </p:grpSpPr>
          <p:sp>
            <p:nvSpPr>
              <p:cNvPr id="1314" name=""/>
              <p:cNvSpPr/>
              <p:nvPr/>
            </p:nvSpPr>
            <p:spPr>
              <a:xfrm>
                <a:off x="3506400" y="54403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,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506400" y="54403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4764240" y="5440320"/>
              <a:ext cx="1257480" cy="441720"/>
              <a:chOff x="4764240" y="5440320"/>
              <a:chExt cx="1257480" cy="441720"/>
            </a:xfrm>
          </p:grpSpPr>
          <p:sp>
            <p:nvSpPr>
              <p:cNvPr id="1317" name=""/>
              <p:cNvSpPr/>
              <p:nvPr/>
            </p:nvSpPr>
            <p:spPr>
              <a:xfrm>
                <a:off x="4764240" y="54403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764240" y="544032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6022440" y="5440320"/>
              <a:ext cx="1257120" cy="441720"/>
              <a:chOff x="6022440" y="5440320"/>
              <a:chExt cx="1257120" cy="441720"/>
            </a:xfrm>
          </p:grpSpPr>
          <p:sp>
            <p:nvSpPr>
              <p:cNvPr id="1320" name=""/>
              <p:cNvSpPr/>
              <p:nvPr/>
            </p:nvSpPr>
            <p:spPr>
              <a:xfrm>
                <a:off x="6022440" y="54403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022440" y="544032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990720" y="5882400"/>
              <a:ext cx="1257480" cy="441720"/>
              <a:chOff x="990720" y="5882400"/>
              <a:chExt cx="1257480" cy="441720"/>
            </a:xfrm>
          </p:grpSpPr>
          <p:sp>
            <p:nvSpPr>
              <p:cNvPr id="1323" name=""/>
              <p:cNvSpPr/>
              <p:nvPr/>
            </p:nvSpPr>
            <p:spPr>
              <a:xfrm>
                <a:off x="990720" y="58824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Код 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90720" y="58824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2248560" y="5882400"/>
              <a:ext cx="1257120" cy="441720"/>
              <a:chOff x="2248560" y="5882400"/>
              <a:chExt cx="1257120" cy="441720"/>
            </a:xfrm>
          </p:grpSpPr>
          <p:sp>
            <p:nvSpPr>
              <p:cNvPr id="1326" name=""/>
              <p:cNvSpPr/>
              <p:nvPr/>
            </p:nvSpPr>
            <p:spPr>
              <a:xfrm>
                <a:off x="2248560" y="588240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248560" y="588240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3506400" y="5882400"/>
              <a:ext cx="1257480" cy="441720"/>
              <a:chOff x="3506400" y="5882400"/>
              <a:chExt cx="1257480" cy="441720"/>
            </a:xfrm>
          </p:grpSpPr>
          <p:sp>
            <p:nvSpPr>
              <p:cNvPr id="1329" name=""/>
              <p:cNvSpPr/>
              <p:nvPr/>
            </p:nvSpPr>
            <p:spPr>
              <a:xfrm>
                <a:off x="3506400" y="58824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3506400" y="58824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4764240" y="5882400"/>
              <a:ext cx="1257480" cy="441720"/>
              <a:chOff x="4764240" y="5882400"/>
              <a:chExt cx="1257480" cy="441720"/>
            </a:xfrm>
          </p:grpSpPr>
          <p:sp>
            <p:nvSpPr>
              <p:cNvPr id="1332" name=""/>
              <p:cNvSpPr/>
              <p:nvPr/>
            </p:nvSpPr>
            <p:spPr>
              <a:xfrm>
                <a:off x="4764240" y="58824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764240" y="5882400"/>
                <a:ext cx="125748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"/>
            <p:cNvGrpSpPr/>
            <p:nvPr/>
          </p:nvGrpSpPr>
          <p:grpSpPr>
            <a:xfrm>
              <a:off x="6022440" y="5882400"/>
              <a:ext cx="1257120" cy="441720"/>
              <a:chOff x="6022440" y="5882400"/>
              <a:chExt cx="1257120" cy="441720"/>
            </a:xfrm>
          </p:grpSpPr>
          <p:sp>
            <p:nvSpPr>
              <p:cNvPr id="1335" name=""/>
              <p:cNvSpPr/>
              <p:nvPr/>
            </p:nvSpPr>
            <p:spPr>
              <a:xfrm>
                <a:off x="6022440" y="588240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022440" y="5882400"/>
                <a:ext cx="1257120" cy="4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Таблица динамики состояния образования и культуры (код 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24382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457200" y="1371600"/>
          <a:ext cx="8381880" cy="47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38188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Гистограмма динамики изменения образования и культуры (код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295280" y="5562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      5.2     5.3      5.4     5.5      5.6     5.7      5.8    код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295280" y="3886200"/>
            <a:ext cx="6629400" cy="0"/>
          </a:xfrm>
          <a:prstGeom prst="line">
            <a:avLst/>
          </a:prstGeom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245736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5" name=""/>
          <p:cNvGraphicFramePr/>
          <p:nvPr/>
        </p:nvGraphicFramePr>
        <p:xfrm>
          <a:off x="228600" y="1066680"/>
          <a:ext cx="8686800" cy="48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Экспертный прогноз изменения уровня образования и культуры (код 5) 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0 – текущее состоя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838080" y="5562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     5.2     5.3      5.4     5.5     5.6      5.7     5.8     код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143000" y="5486400"/>
            <a:ext cx="655308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3240" y="617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Таблица динамики изменения показателей пространства социальной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1447920" y="1828800"/>
            <a:ext cx="6400440" cy="4572000"/>
            <a:chOff x="1447920" y="1828800"/>
            <a:chExt cx="6400440" cy="4572000"/>
          </a:xfrm>
        </p:grpSpPr>
        <p:grpSp>
          <p:nvGrpSpPr>
            <p:cNvPr id="1353" name=""/>
            <p:cNvGrpSpPr/>
            <p:nvPr/>
          </p:nvGrpSpPr>
          <p:grpSpPr>
            <a:xfrm>
              <a:off x="1455840" y="1830240"/>
              <a:ext cx="6383520" cy="4568760"/>
              <a:chOff x="1455840" y="1830240"/>
              <a:chExt cx="6383520" cy="4568760"/>
            </a:xfrm>
          </p:grpSpPr>
          <p:grpSp>
            <p:nvGrpSpPr>
              <p:cNvPr id="1354" name=""/>
              <p:cNvGrpSpPr/>
              <p:nvPr/>
            </p:nvGrpSpPr>
            <p:grpSpPr>
              <a:xfrm>
                <a:off x="1455840" y="1830240"/>
                <a:ext cx="1507680" cy="395640"/>
                <a:chOff x="1455840" y="1830240"/>
                <a:chExt cx="1507680" cy="395640"/>
              </a:xfrm>
            </p:grpSpPr>
            <p:sp>
              <p:nvSpPr>
                <p:cNvPr id="1355" name=""/>
                <p:cNvSpPr/>
                <p:nvPr/>
              </p:nvSpPr>
              <p:spPr>
                <a:xfrm>
                  <a:off x="1455840" y="1830240"/>
                  <a:ext cx="150768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1455840" y="1830240"/>
                  <a:ext cx="150768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7" name=""/>
              <p:cNvGrpSpPr/>
              <p:nvPr/>
            </p:nvGrpSpPr>
            <p:grpSpPr>
              <a:xfrm>
                <a:off x="2963880" y="1830240"/>
                <a:ext cx="1218240" cy="395640"/>
                <a:chOff x="2963880" y="1830240"/>
                <a:chExt cx="1218240" cy="39564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2963880" y="183024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2963880" y="183024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0" name=""/>
              <p:cNvGrpSpPr/>
              <p:nvPr/>
            </p:nvGrpSpPr>
            <p:grpSpPr>
              <a:xfrm>
                <a:off x="4182840" y="1830240"/>
                <a:ext cx="1218240" cy="395640"/>
                <a:chOff x="4182840" y="1830240"/>
                <a:chExt cx="1218240" cy="39564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4182840" y="183024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П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182840" y="183024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3" name=""/>
              <p:cNvGrpSpPr/>
              <p:nvPr/>
            </p:nvGrpSpPr>
            <p:grpSpPr>
              <a:xfrm>
                <a:off x="5401440" y="1830240"/>
                <a:ext cx="1218240" cy="395640"/>
                <a:chOff x="5401440" y="1830240"/>
                <a:chExt cx="1218240" cy="395640"/>
              </a:xfrm>
            </p:grpSpPr>
            <p:sp>
              <p:nvSpPr>
                <p:cNvPr id="1364" name=""/>
                <p:cNvSpPr/>
                <p:nvPr/>
              </p:nvSpPr>
              <p:spPr>
                <a:xfrm>
                  <a:off x="5401440" y="183024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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401440" y="183024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6620400" y="1830240"/>
                <a:ext cx="1218960" cy="395640"/>
                <a:chOff x="6620400" y="1830240"/>
                <a:chExt cx="1218960" cy="39564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6620400" y="1830240"/>
                  <a:ext cx="121896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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6620400" y="1830240"/>
                  <a:ext cx="121896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1455840" y="2225880"/>
                <a:ext cx="1507680" cy="396000"/>
                <a:chOff x="1455840" y="2225880"/>
                <a:chExt cx="1507680" cy="39600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1455840" y="2225880"/>
                  <a:ext cx="1507680" cy="3960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д 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1455840" y="2225880"/>
                  <a:ext cx="1507680" cy="3960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2963880" y="2225880"/>
                <a:ext cx="1218240" cy="396000"/>
                <a:chOff x="2963880" y="2225880"/>
                <a:chExt cx="1218240" cy="39600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2963880" y="2225880"/>
                  <a:ext cx="1218240" cy="3960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2963880" y="2225880"/>
                  <a:ext cx="1218240" cy="3960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182840" y="2225880"/>
                <a:ext cx="1218240" cy="396000"/>
                <a:chOff x="4182840" y="2225880"/>
                <a:chExt cx="1218240" cy="39600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182840" y="2225880"/>
                  <a:ext cx="1218240" cy="3960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182840" y="2225880"/>
                  <a:ext cx="1218240" cy="3960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5401440" y="2225880"/>
                <a:ext cx="1218240" cy="396000"/>
                <a:chOff x="5401440" y="2225880"/>
                <a:chExt cx="1218240" cy="39600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5401440" y="2225880"/>
                  <a:ext cx="1218240" cy="3960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5401440" y="2225880"/>
                  <a:ext cx="1218240" cy="3960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6620400" y="2225880"/>
                <a:ext cx="1218960" cy="396000"/>
                <a:chOff x="6620400" y="2225880"/>
                <a:chExt cx="1218960" cy="39600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6620400" y="2225880"/>
                  <a:ext cx="1218960" cy="3960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620400" y="2225880"/>
                  <a:ext cx="1218960" cy="39600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1455840" y="2622240"/>
                <a:ext cx="1507680" cy="517680"/>
                <a:chOff x="1455840" y="2622240"/>
                <a:chExt cx="1507680" cy="51768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1455840" y="2622240"/>
                  <a:ext cx="150768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д 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1455840" y="2622240"/>
                  <a:ext cx="150768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2963880" y="2622240"/>
                <a:ext cx="1218240" cy="517680"/>
                <a:chOff x="2963880" y="2622240"/>
                <a:chExt cx="1218240" cy="51768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2963880" y="262224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2963880" y="262224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4182840" y="2622240"/>
                <a:ext cx="1218240" cy="517680"/>
                <a:chOff x="4182840" y="2622240"/>
                <a:chExt cx="1218240" cy="51768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4182840" y="262224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182840" y="262224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5401440" y="2622240"/>
                <a:ext cx="1218240" cy="517680"/>
                <a:chOff x="5401440" y="2622240"/>
                <a:chExt cx="1218240" cy="51768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5401440" y="262224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5401440" y="262224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6620400" y="2622240"/>
                <a:ext cx="1218960" cy="517680"/>
                <a:chOff x="6620400" y="2622240"/>
                <a:chExt cx="1218960" cy="51768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6620400" y="2622240"/>
                  <a:ext cx="121896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620400" y="2622240"/>
                  <a:ext cx="121896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1455840" y="3139920"/>
                <a:ext cx="1507680" cy="395640"/>
                <a:chOff x="1455840" y="3139920"/>
                <a:chExt cx="1507680" cy="39564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1455840" y="3139920"/>
                  <a:ext cx="150768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д 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1455840" y="3139920"/>
                  <a:ext cx="150768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2963880" y="3139920"/>
                <a:ext cx="1218240" cy="395640"/>
                <a:chOff x="2963880" y="3139920"/>
                <a:chExt cx="1218240" cy="39564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2963880" y="313992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2963880" y="313992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4182840" y="3139920"/>
                <a:ext cx="1218240" cy="395640"/>
                <a:chOff x="4182840" y="3139920"/>
                <a:chExt cx="1218240" cy="39564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4182840" y="313992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182840" y="313992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5401440" y="3139920"/>
                <a:ext cx="1218240" cy="395640"/>
                <a:chOff x="5401440" y="3139920"/>
                <a:chExt cx="1218240" cy="39564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5401440" y="313992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401440" y="313992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6620400" y="3139920"/>
                <a:ext cx="1218960" cy="395640"/>
                <a:chOff x="6620400" y="3139920"/>
                <a:chExt cx="1218960" cy="39564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6620400" y="3139920"/>
                  <a:ext cx="121896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620400" y="3139920"/>
                  <a:ext cx="121896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1455840" y="3535920"/>
                <a:ext cx="1507680" cy="517680"/>
                <a:chOff x="1455840" y="3535920"/>
                <a:chExt cx="1507680" cy="51768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1455840" y="3535920"/>
                  <a:ext cx="150768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д 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1455840" y="3535920"/>
                  <a:ext cx="150768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2963880" y="3535920"/>
                <a:ext cx="1218240" cy="517680"/>
                <a:chOff x="2963880" y="3535920"/>
                <a:chExt cx="1218240" cy="51768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963880" y="353592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1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963880" y="353592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4182840" y="3535920"/>
                <a:ext cx="1218240" cy="517680"/>
                <a:chOff x="4182840" y="3535920"/>
                <a:chExt cx="1218240" cy="5176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4182840" y="353592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0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182840" y="353592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5401440" y="3535920"/>
                <a:ext cx="1218240" cy="517680"/>
                <a:chOff x="5401440" y="3535920"/>
                <a:chExt cx="1218240" cy="51768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5401440" y="353592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401440" y="353592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6620400" y="3535920"/>
                <a:ext cx="1218960" cy="517680"/>
                <a:chOff x="6620400" y="3535920"/>
                <a:chExt cx="1218960" cy="51768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6620400" y="3535920"/>
                  <a:ext cx="121896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0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6620400" y="3535920"/>
                  <a:ext cx="121896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1455840" y="4053600"/>
                <a:ext cx="1507680" cy="395640"/>
                <a:chOff x="1455840" y="4053600"/>
                <a:chExt cx="1507680" cy="39564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1455840" y="4053600"/>
                  <a:ext cx="150768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д 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1455840" y="4053600"/>
                  <a:ext cx="150768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2963880" y="4053600"/>
                <a:ext cx="1218240" cy="395640"/>
                <a:chOff x="2963880" y="4053600"/>
                <a:chExt cx="1218240" cy="39564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2963880" y="405360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963880" y="405360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4182840" y="4053600"/>
                <a:ext cx="1218240" cy="395640"/>
                <a:chOff x="4182840" y="4053600"/>
                <a:chExt cx="1218240" cy="3956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4182840" y="405360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4182840" y="405360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5401440" y="4053600"/>
                <a:ext cx="1218240" cy="395640"/>
                <a:chOff x="5401440" y="4053600"/>
                <a:chExt cx="1218240" cy="39564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5401440" y="405360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401440" y="405360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6620400" y="4053600"/>
                <a:ext cx="1218960" cy="395640"/>
                <a:chOff x="6620400" y="4053600"/>
                <a:chExt cx="1218960" cy="39564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6620400" y="4053600"/>
                  <a:ext cx="121896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6620400" y="4053600"/>
                  <a:ext cx="121896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1455840" y="4449600"/>
                <a:ext cx="1507680" cy="517680"/>
                <a:chOff x="1455840" y="4449600"/>
                <a:chExt cx="1507680" cy="51768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1455840" y="4449600"/>
                  <a:ext cx="150768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д 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1455840" y="4449600"/>
                  <a:ext cx="150768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2963880" y="4449600"/>
                <a:ext cx="1218240" cy="517680"/>
                <a:chOff x="2963880" y="4449600"/>
                <a:chExt cx="1218240" cy="51768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2963880" y="444960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2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2963880" y="444960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4182840" y="4449600"/>
                <a:ext cx="1218240" cy="517680"/>
                <a:chOff x="4182840" y="4449600"/>
                <a:chExt cx="1218240" cy="51768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4182840" y="444960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3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4182840" y="444960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5401440" y="4449600"/>
                <a:ext cx="1218240" cy="517680"/>
                <a:chOff x="5401440" y="4449600"/>
                <a:chExt cx="1218240" cy="51768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5401440" y="444960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5401440" y="444960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6620400" y="4449600"/>
                <a:ext cx="1218960" cy="517680"/>
                <a:chOff x="6620400" y="4449600"/>
                <a:chExt cx="1218960" cy="51768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6620400" y="4449600"/>
                  <a:ext cx="121896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620400" y="4449600"/>
                  <a:ext cx="121896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1455840" y="4967640"/>
                <a:ext cx="1507680" cy="395640"/>
                <a:chOff x="1455840" y="4967640"/>
                <a:chExt cx="1507680" cy="39564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1455840" y="4967640"/>
                  <a:ext cx="150768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д 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1455840" y="4967640"/>
                  <a:ext cx="150768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2" name=""/>
              <p:cNvGrpSpPr/>
              <p:nvPr/>
            </p:nvGrpSpPr>
            <p:grpSpPr>
              <a:xfrm>
                <a:off x="2963880" y="4967640"/>
                <a:ext cx="1218240" cy="395640"/>
                <a:chOff x="2963880" y="4967640"/>
                <a:chExt cx="1218240" cy="395640"/>
              </a:xfrm>
            </p:grpSpPr>
            <p:sp>
              <p:nvSpPr>
                <p:cNvPr id="1463" name=""/>
                <p:cNvSpPr/>
                <p:nvPr/>
              </p:nvSpPr>
              <p:spPr>
                <a:xfrm>
                  <a:off x="2963880" y="496764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2963880" y="496764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5" name=""/>
              <p:cNvGrpSpPr/>
              <p:nvPr/>
            </p:nvGrpSpPr>
            <p:grpSpPr>
              <a:xfrm>
                <a:off x="4182840" y="4967640"/>
                <a:ext cx="1218240" cy="395640"/>
                <a:chOff x="4182840" y="4967640"/>
                <a:chExt cx="1218240" cy="395640"/>
              </a:xfrm>
            </p:grpSpPr>
            <p:sp>
              <p:nvSpPr>
                <p:cNvPr id="1466" name=""/>
                <p:cNvSpPr/>
                <p:nvPr/>
              </p:nvSpPr>
              <p:spPr>
                <a:xfrm>
                  <a:off x="4182840" y="496764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4182840" y="496764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401440" y="4967640"/>
                <a:ext cx="1218240" cy="395640"/>
                <a:chOff x="5401440" y="4967640"/>
                <a:chExt cx="1218240" cy="39564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5401440" y="4967640"/>
                  <a:ext cx="121824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5401440" y="4967640"/>
                  <a:ext cx="121824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1" name=""/>
              <p:cNvGrpSpPr/>
              <p:nvPr/>
            </p:nvGrpSpPr>
            <p:grpSpPr>
              <a:xfrm>
                <a:off x="6620400" y="4967640"/>
                <a:ext cx="1218960" cy="395640"/>
                <a:chOff x="6620400" y="4967640"/>
                <a:chExt cx="1218960" cy="39564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6620400" y="4967640"/>
                  <a:ext cx="1218960" cy="3956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620400" y="4967640"/>
                  <a:ext cx="1218960" cy="3956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4" name=""/>
              <p:cNvGrpSpPr/>
              <p:nvPr/>
            </p:nvGrpSpPr>
            <p:grpSpPr>
              <a:xfrm>
                <a:off x="1455840" y="5363280"/>
                <a:ext cx="1507680" cy="517680"/>
                <a:chOff x="1455840" y="5363280"/>
                <a:chExt cx="1507680" cy="517680"/>
              </a:xfrm>
            </p:grpSpPr>
            <p:sp>
              <p:nvSpPr>
                <p:cNvPr id="1475" name=""/>
                <p:cNvSpPr/>
                <p:nvPr/>
              </p:nvSpPr>
              <p:spPr>
                <a:xfrm>
                  <a:off x="1455840" y="5363280"/>
                  <a:ext cx="150768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д 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1455840" y="5363280"/>
                  <a:ext cx="150768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7" name=""/>
              <p:cNvGrpSpPr/>
              <p:nvPr/>
            </p:nvGrpSpPr>
            <p:grpSpPr>
              <a:xfrm>
                <a:off x="2963880" y="5363280"/>
                <a:ext cx="1218240" cy="517680"/>
                <a:chOff x="2963880" y="5363280"/>
                <a:chExt cx="1218240" cy="517680"/>
              </a:xfrm>
            </p:grpSpPr>
            <p:sp>
              <p:nvSpPr>
                <p:cNvPr id="1478" name=""/>
                <p:cNvSpPr/>
                <p:nvPr/>
              </p:nvSpPr>
              <p:spPr>
                <a:xfrm>
                  <a:off x="2963880" y="536328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2963880" y="536328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0" name=""/>
              <p:cNvGrpSpPr/>
              <p:nvPr/>
            </p:nvGrpSpPr>
            <p:grpSpPr>
              <a:xfrm>
                <a:off x="4182840" y="5363280"/>
                <a:ext cx="1218240" cy="517680"/>
                <a:chOff x="4182840" y="5363280"/>
                <a:chExt cx="1218240" cy="517680"/>
              </a:xfrm>
            </p:grpSpPr>
            <p:sp>
              <p:nvSpPr>
                <p:cNvPr id="1481" name=""/>
                <p:cNvSpPr/>
                <p:nvPr/>
              </p:nvSpPr>
              <p:spPr>
                <a:xfrm>
                  <a:off x="4182840" y="536328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4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4182840" y="536328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3" name=""/>
              <p:cNvGrpSpPr/>
              <p:nvPr/>
            </p:nvGrpSpPr>
            <p:grpSpPr>
              <a:xfrm>
                <a:off x="5401440" y="5363280"/>
                <a:ext cx="1218240" cy="517680"/>
                <a:chOff x="5401440" y="5363280"/>
                <a:chExt cx="1218240" cy="517680"/>
              </a:xfrm>
            </p:grpSpPr>
            <p:sp>
              <p:nvSpPr>
                <p:cNvPr id="1484" name=""/>
                <p:cNvSpPr/>
                <p:nvPr/>
              </p:nvSpPr>
              <p:spPr>
                <a:xfrm>
                  <a:off x="5401440" y="536328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5401440" y="536328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6" name=""/>
              <p:cNvGrpSpPr/>
              <p:nvPr/>
            </p:nvGrpSpPr>
            <p:grpSpPr>
              <a:xfrm>
                <a:off x="6620400" y="5363280"/>
                <a:ext cx="1218960" cy="517680"/>
                <a:chOff x="6620400" y="5363280"/>
                <a:chExt cx="1218960" cy="517680"/>
              </a:xfrm>
            </p:grpSpPr>
            <p:sp>
              <p:nvSpPr>
                <p:cNvPr id="1487" name=""/>
                <p:cNvSpPr/>
                <p:nvPr/>
              </p:nvSpPr>
              <p:spPr>
                <a:xfrm>
                  <a:off x="6620400" y="5363280"/>
                  <a:ext cx="121896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2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620400" y="5363280"/>
                  <a:ext cx="121896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9" name=""/>
              <p:cNvGrpSpPr/>
              <p:nvPr/>
            </p:nvGrpSpPr>
            <p:grpSpPr>
              <a:xfrm>
                <a:off x="1455840" y="5881320"/>
                <a:ext cx="1507680" cy="517680"/>
                <a:chOff x="1455840" y="5881320"/>
                <a:chExt cx="1507680" cy="517680"/>
              </a:xfrm>
            </p:grpSpPr>
            <p:sp>
              <p:nvSpPr>
                <p:cNvPr id="1490" name=""/>
                <p:cNvSpPr/>
                <p:nvPr/>
              </p:nvSpPr>
              <p:spPr>
                <a:xfrm>
                  <a:off x="1455840" y="5881320"/>
                  <a:ext cx="150768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д 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1455840" y="5881320"/>
                  <a:ext cx="150768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963880" y="5881320"/>
                <a:ext cx="1218240" cy="517680"/>
                <a:chOff x="2963880" y="5881320"/>
                <a:chExt cx="1218240" cy="51768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2963880" y="588132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2963880" y="588132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5" name=""/>
              <p:cNvGrpSpPr/>
              <p:nvPr/>
            </p:nvGrpSpPr>
            <p:grpSpPr>
              <a:xfrm>
                <a:off x="4182840" y="5881320"/>
                <a:ext cx="1218240" cy="517680"/>
                <a:chOff x="4182840" y="5881320"/>
                <a:chExt cx="1218240" cy="517680"/>
              </a:xfrm>
            </p:grpSpPr>
            <p:sp>
              <p:nvSpPr>
                <p:cNvPr id="1496" name=""/>
                <p:cNvSpPr/>
                <p:nvPr/>
              </p:nvSpPr>
              <p:spPr>
                <a:xfrm>
                  <a:off x="4182840" y="588132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0,1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4182840" y="588132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8" name=""/>
              <p:cNvGrpSpPr/>
              <p:nvPr/>
            </p:nvGrpSpPr>
            <p:grpSpPr>
              <a:xfrm>
                <a:off x="5401440" y="5881320"/>
                <a:ext cx="1218240" cy="517680"/>
                <a:chOff x="5401440" y="5881320"/>
                <a:chExt cx="1218240" cy="51768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5401440" y="5881320"/>
                  <a:ext cx="121824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0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5401440" y="5881320"/>
                  <a:ext cx="121824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6620400" y="5881320"/>
                <a:ext cx="1218960" cy="517680"/>
                <a:chOff x="6620400" y="5881320"/>
                <a:chExt cx="1218960" cy="51768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6620400" y="5881320"/>
                  <a:ext cx="1218960" cy="517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620400" y="5881320"/>
                  <a:ext cx="1218960" cy="5176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4" name=""/>
            <p:cNvSpPr/>
            <p:nvPr/>
          </p:nvSpPr>
          <p:spPr>
            <a:xfrm>
              <a:off x="1447920" y="1828800"/>
              <a:ext cx="6400440" cy="4572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Гистограмма динамики изменения показателей пространства социальной 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22084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762120" y="1600200"/>
          <a:ext cx="7772400" cy="40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7724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9" name=""/>
          <p:cNvSpPr/>
          <p:nvPr/>
        </p:nvSpPr>
        <p:spPr>
          <a:xfrm>
            <a:off x="1447920" y="5257800"/>
            <a:ext cx="769608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Код 1   Код 2   Код 3   Код 4   Код 5  Код 6  Код 7  Код 8  Интег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показател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523880" y="3429000"/>
            <a:ext cx="624852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Экспертный прогноз изменения уровней показателей пространства социальной безопас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2" name=""/>
          <p:cNvGraphicFramePr/>
          <p:nvPr/>
        </p:nvGraphicFramePr>
        <p:xfrm>
          <a:off x="762120" y="1219320"/>
          <a:ext cx="7619760" cy="42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197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"/>
          <p:cNvSpPr/>
          <p:nvPr/>
        </p:nvSpPr>
        <p:spPr>
          <a:xfrm>
            <a:off x="1523880" y="3200400"/>
            <a:ext cx="5943600" cy="0"/>
          </a:xfrm>
          <a:prstGeom prst="line">
            <a:avLst/>
          </a:prstGeom>
          <a:ln w="66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43000" y="5105520"/>
            <a:ext cx="7696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Код 1   Код 2  Код 3  Код 4 Код 5  Код 6  Код 7  Код 8  Интег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показ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-1066680"/>
            <a:ext cx="9144000" cy="71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нформационное пространство социальноЙ сфе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66680" y="304920"/>
            <a:ext cx="7010280" cy="6095520"/>
            <a:chOff x="1066680" y="304920"/>
            <a:chExt cx="7010280" cy="6095520"/>
          </a:xfrm>
        </p:grpSpPr>
        <p:grpSp>
          <p:nvGrpSpPr>
            <p:cNvPr id="72" name=""/>
            <p:cNvGrpSpPr/>
            <p:nvPr/>
          </p:nvGrpSpPr>
          <p:grpSpPr>
            <a:xfrm>
              <a:off x="1066680" y="304920"/>
              <a:ext cx="7010280" cy="6095520"/>
              <a:chOff x="1066680" y="304920"/>
              <a:chExt cx="7010280" cy="6095520"/>
            </a:xfrm>
          </p:grpSpPr>
          <p:sp>
            <p:nvSpPr>
              <p:cNvPr id="73" name=""/>
              <p:cNvSpPr/>
              <p:nvPr/>
            </p:nvSpPr>
            <p:spPr>
              <a:xfrm>
                <a:off x="1938240" y="1136880"/>
                <a:ext cx="6138720" cy="5263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66680" y="862560"/>
                <a:ext cx="6217560" cy="5255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1760" y="1391400"/>
                <a:ext cx="316080" cy="4850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О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Ц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Н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О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Р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О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Р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Н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Т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В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О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30520" y="938880"/>
                <a:ext cx="5013720" cy="136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НФОРМАЦИОННОЕ ПРОСТРАНСТВО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35520" y="1136880"/>
                <a:ext cx="5875920" cy="14904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50200" y="1236600"/>
                <a:ext cx="4294800" cy="159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татистическая информ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61600" y="1477440"/>
                <a:ext cx="5474520" cy="282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Основная база данных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61600" y="1838520"/>
                <a:ext cx="5474520" cy="166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ru-RU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рограммы статистического анализа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385000" y="2125080"/>
                <a:ext cx="478800" cy="28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55280" y="2125080"/>
                <a:ext cx="477720" cy="28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632560" y="2125080"/>
                <a:ext cx="477720" cy="28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09720" y="2125080"/>
                <a:ext cx="479160" cy="285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31440" y="2176920"/>
                <a:ext cx="319680" cy="243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35520" y="2750400"/>
                <a:ext cx="5875920" cy="1489320"/>
              </a:xfrm>
              <a:prstGeom prst="rect">
                <a:avLst/>
              </a:prstGeom>
              <a:solidFill>
                <a:srgbClr val="ff99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35520" y="4340520"/>
                <a:ext cx="5875920" cy="1490400"/>
              </a:xfrm>
              <a:prstGeom prst="rect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50200" y="2818800"/>
                <a:ext cx="4294800" cy="1584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ОЛОГО-АНАЛИТИЧЕСКАЯ ИНФ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461600" y="3064320"/>
                <a:ext cx="5474520" cy="20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Моделирование объект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61600" y="3372480"/>
                <a:ext cx="5474520" cy="20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ая диагностика объект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61600" y="3679920"/>
                <a:ext cx="5474520" cy="208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ое прогнозирование ситуации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61600" y="3965760"/>
                <a:ext cx="5474520" cy="20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ое проектирование объект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5400000">
                <a:off x="2425320" y="2373480"/>
                <a:ext cx="401400" cy="490320"/>
              </a:xfrm>
              <a:custGeom>
                <a:avLst/>
                <a:gdLst>
                  <a:gd name="textAreaLeft" fmla="*/ 62640 w 401400"/>
                  <a:gd name="textAreaRight" fmla="*/ 351360 w 401400"/>
                  <a:gd name="textAreaTop" fmla="*/ 122400 h 490320"/>
                  <a:gd name="textAreaBottom" fmla="*/ 367920 h 490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400000">
                <a:off x="3487680" y="2374560"/>
                <a:ext cx="401400" cy="488520"/>
              </a:xfrm>
              <a:custGeom>
                <a:avLst/>
                <a:gdLst>
                  <a:gd name="textAreaLeft" fmla="*/ 62640 w 401400"/>
                  <a:gd name="textAreaRight" fmla="*/ 351360 w 401400"/>
                  <a:gd name="textAreaTop" fmla="*/ 122040 h 488520"/>
                  <a:gd name="textAreaBottom" fmla="*/ 366480 h 488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5400000">
                <a:off x="4553280" y="2374200"/>
                <a:ext cx="401400" cy="488880"/>
              </a:xfrm>
              <a:custGeom>
                <a:avLst/>
                <a:gdLst>
                  <a:gd name="textAreaLeft" fmla="*/ 62640 w 401400"/>
                  <a:gd name="textAreaRight" fmla="*/ 351360 w 401400"/>
                  <a:gd name="textAreaTop" fmla="*/ 122040 h 488880"/>
                  <a:gd name="textAreaBottom" fmla="*/ 366840 h 48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5400000">
                <a:off x="5664960" y="2374200"/>
                <a:ext cx="401400" cy="488880"/>
              </a:xfrm>
              <a:custGeom>
                <a:avLst/>
                <a:gdLst>
                  <a:gd name="textAreaLeft" fmla="*/ 62640 w 401400"/>
                  <a:gd name="textAreaRight" fmla="*/ 351360 w 401400"/>
                  <a:gd name="textAreaTop" fmla="*/ 122040 h 488880"/>
                  <a:gd name="textAreaBottom" fmla="*/ 366840 h 488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30520" y="4432320"/>
                <a:ext cx="5013720" cy="158400"/>
              </a:xfrm>
              <a:prstGeom prst="rect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ОЦИАЛЬНО-УПРАВЛЕНЧЕСКАЯ ИНФ.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61600" y="4681080"/>
                <a:ext cx="5474520" cy="20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арианты управленческих реше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61600" y="5027040"/>
                <a:ext cx="5474520" cy="208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мплексные и целевые программ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61600" y="5386680"/>
                <a:ext cx="5474520" cy="207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нтроль исполнения реш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5400000">
                <a:off x="1417680" y="4103280"/>
                <a:ext cx="452160" cy="587160"/>
              </a:xfrm>
              <a:custGeom>
                <a:avLst/>
                <a:gdLst>
                  <a:gd name="textAreaLeft" fmla="*/ 70560 w 452160"/>
                  <a:gd name="textAreaRight" fmla="*/ 395640 w 452160"/>
                  <a:gd name="textAreaTop" fmla="*/ 146880 h 587160"/>
                  <a:gd name="textAreaBottom" fmla="*/ 440640 h 58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5400000">
                <a:off x="6505560" y="4102560"/>
                <a:ext cx="452160" cy="588600"/>
              </a:xfrm>
              <a:custGeom>
                <a:avLst/>
                <a:gdLst>
                  <a:gd name="textAreaLeft" fmla="*/ 70560 w 452160"/>
                  <a:gd name="textAreaRight" fmla="*/ 395640 w 452160"/>
                  <a:gd name="textAreaTop" fmla="*/ 147240 h 588600"/>
                  <a:gd name="textAreaBottom" fmla="*/ 441720 h 58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608560" y="304920"/>
                <a:ext cx="1542240" cy="506880"/>
                <a:chOff x="2608560" y="304920"/>
                <a:chExt cx="1542240" cy="50688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2608560" y="304560"/>
                  <a:ext cx="1542240" cy="506880"/>
                </a:xfrm>
                <a:prstGeom prst="pentagon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892600" y="389520"/>
                  <a:ext cx="954720" cy="2433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интру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066680" y="304920"/>
                <a:ext cx="1541880" cy="506880"/>
                <a:chOff x="1066680" y="304920"/>
                <a:chExt cx="1541880" cy="506880"/>
              </a:xfrm>
            </p:grpSpPr>
            <p:sp>
              <p:nvSpPr>
                <p:cNvPr id="107" name=""/>
                <p:cNvSpPr/>
                <p:nvPr/>
              </p:nvSpPr>
              <p:spPr>
                <a:xfrm flipV="1">
                  <a:off x="1066680" y="304560"/>
                  <a:ext cx="1541880" cy="506880"/>
                </a:xfrm>
                <a:prstGeom prst="pentagon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350720" y="389520"/>
                  <a:ext cx="954360" cy="2433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скомст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 flipV="1">
                <a:off x="5693400" y="304560"/>
                <a:ext cx="1542240" cy="506880"/>
              </a:xfrm>
              <a:prstGeom prst="pentagon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151160" y="304920"/>
                <a:ext cx="1541880" cy="506880"/>
                <a:chOff x="4151160" y="304920"/>
                <a:chExt cx="1541880" cy="506880"/>
              </a:xfrm>
            </p:grpSpPr>
            <p:sp>
              <p:nvSpPr>
                <p:cNvPr id="111" name=""/>
                <p:cNvSpPr/>
                <p:nvPr/>
              </p:nvSpPr>
              <p:spPr>
                <a:xfrm flipV="1">
                  <a:off x="4151160" y="304560"/>
                  <a:ext cx="1541880" cy="506880"/>
                </a:xfrm>
                <a:prstGeom prst="pentagon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435200" y="389520"/>
                  <a:ext cx="954360" cy="2433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тр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едомств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" name=""/>
            <p:cNvSpPr/>
            <p:nvPr/>
          </p:nvSpPr>
          <p:spPr>
            <a:xfrm>
              <a:off x="5974200" y="389160"/>
              <a:ext cx="961920" cy="243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. цен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0" y="-1066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63640" y="-358776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63640" y="2859120"/>
            <a:ext cx="36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3640" y="3889440"/>
            <a:ext cx="366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371600" y="762120"/>
            <a:ext cx="6705720" cy="5715000"/>
            <a:chOff x="1371600" y="762120"/>
            <a:chExt cx="6705720" cy="5715000"/>
          </a:xfrm>
        </p:grpSpPr>
        <p:sp>
          <p:nvSpPr>
            <p:cNvPr id="119" name=""/>
            <p:cNvSpPr/>
            <p:nvPr/>
          </p:nvSpPr>
          <p:spPr>
            <a:xfrm>
              <a:off x="1371600" y="6099840"/>
              <a:ext cx="6705720" cy="3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16440" y="2207160"/>
              <a:ext cx="5322240" cy="79812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16440" y="3178440"/>
              <a:ext cx="5322240" cy="79812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16440" y="4172760"/>
              <a:ext cx="5322240" cy="79812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71600" y="1762200"/>
              <a:ext cx="720" cy="43437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8076600" y="1762200"/>
              <a:ext cx="720" cy="43437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16440" y="5058360"/>
              <a:ext cx="5322240" cy="3384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00"/>
                </a:gs>
                <a:gs pos="100000">
                  <a:srgbClr val="ff9900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720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Ы УПРАВЛЕНИЯ СОЦИАЛЬНОЙ СФЕРО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61280" y="5573520"/>
              <a:ext cx="320040" cy="2664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93720" y="5573520"/>
              <a:ext cx="320040" cy="2664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25800" y="5573520"/>
              <a:ext cx="320040" cy="2664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57880" y="5573520"/>
              <a:ext cx="320040" cy="2664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89960" y="5573520"/>
              <a:ext cx="320040" cy="2664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22040" y="5573520"/>
              <a:ext cx="320040" cy="2664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54480" y="5573520"/>
              <a:ext cx="320040" cy="266400"/>
            </a:xfrm>
            <a:prstGeom prst="ellipse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23000" y="5839560"/>
              <a:ext cx="489636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66ff"/>
                  </a:solidFill>
                  <a:latin typeface="Times New Roman"/>
                  <a:ea typeface="Times New Roman"/>
                </a:rPr>
                <a:t>СУБЪЕКТЫ СОЦИАЛЬНОЙ СФ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35760" y="1850760"/>
              <a:ext cx="4790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СОЦИАЛЬНАЯ ИНФРАСТРУКТУ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1600" y="763200"/>
              <a:ext cx="2235600" cy="798120"/>
            </a:xfrm>
            <a:prstGeom prst="rect">
              <a:avLst/>
            </a:prstGeom>
            <a:gradFill rotWithShape="0">
              <a:gsLst>
                <a:gs pos="0">
                  <a:srgbClr val="a078c8"/>
                </a:gs>
                <a:gs pos="50000">
                  <a:srgbClr val="cc99ff"/>
                </a:gs>
                <a:gs pos="100000">
                  <a:srgbClr val="a078c8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МАТЕРИАЛЬНО-ПРОИЗВОДСТВЕННАЯ СФЕ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19240" y="762120"/>
              <a:ext cx="1916280" cy="798120"/>
            </a:xfrm>
            <a:prstGeom prst="rect">
              <a:avLst/>
            </a:prstGeom>
            <a:gradFill rotWithShape="0">
              <a:gsLst>
                <a:gs pos="0">
                  <a:srgbClr val="a078c8"/>
                </a:gs>
                <a:gs pos="50000">
                  <a:srgbClr val="cc99ff"/>
                </a:gs>
                <a:gs pos="100000">
                  <a:srgbClr val="a078c8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ПОЛИТИЧЕСКАЯ СФЕ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47920" y="763200"/>
              <a:ext cx="2129400" cy="798120"/>
            </a:xfrm>
            <a:prstGeom prst="rect">
              <a:avLst/>
            </a:prstGeom>
            <a:gradFill rotWithShape="0">
              <a:gsLst>
                <a:gs pos="0">
                  <a:srgbClr val="a078c8"/>
                </a:gs>
                <a:gs pos="50000">
                  <a:srgbClr val="cc99ff"/>
                </a:gs>
                <a:gs pos="100000">
                  <a:srgbClr val="a078c8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КУЛЬТУРНО-ДУХОВНАЯ СФЕ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80600" y="4526640"/>
              <a:ext cx="3193560" cy="1241280"/>
            </a:xfrm>
            <a:prstGeom prst="ellipse">
              <a:avLst/>
            </a:prstGeom>
            <a:noFill/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3600" y="1602000"/>
              <a:ext cx="1490760" cy="3014280"/>
            </a:xfrm>
            <a:prstGeom prst="line">
              <a:avLst/>
            </a:prstGeom>
            <a:ln w="50760">
              <a:solidFill>
                <a:srgbClr val="ffff99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628240" y="1602000"/>
              <a:ext cx="1384200" cy="3014280"/>
            </a:xfrm>
            <a:prstGeom prst="line">
              <a:avLst/>
            </a:prstGeom>
            <a:ln w="50760">
              <a:solidFill>
                <a:srgbClr val="ffff99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77200" y="1513440"/>
              <a:ext cx="720" cy="3014280"/>
            </a:xfrm>
            <a:prstGeom prst="line">
              <a:avLst/>
            </a:prstGeom>
            <a:ln w="50760">
              <a:solidFill>
                <a:srgbClr val="ffff99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87160" y="4704480"/>
              <a:ext cx="29808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ФУНКЦИИ СОЦСФЕР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03680" y="6210720"/>
              <a:ext cx="56415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СОЦИАЛЬНАЯ СФЕ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0" y="-1143000"/>
            <a:ext cx="9144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55920"/>
            <a:ext cx="914400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-331308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" y="-1581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718480" y="-544680"/>
            <a:ext cx="42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457200"/>
            <a:ext cx="8457840" cy="6019920"/>
            <a:chOff x="228600" y="457200"/>
            <a:chExt cx="8457840" cy="6019920"/>
          </a:xfrm>
        </p:grpSpPr>
        <p:grpSp>
          <p:nvGrpSpPr>
            <p:cNvPr id="150" name=""/>
            <p:cNvGrpSpPr/>
            <p:nvPr/>
          </p:nvGrpSpPr>
          <p:grpSpPr>
            <a:xfrm>
              <a:off x="234000" y="460440"/>
              <a:ext cx="8445960" cy="6013080"/>
              <a:chOff x="234000" y="460440"/>
              <a:chExt cx="8445960" cy="60130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234000" y="460440"/>
                <a:ext cx="666720" cy="474120"/>
                <a:chOff x="234000" y="460440"/>
                <a:chExt cx="666720" cy="474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14640" y="460440"/>
                  <a:ext cx="505440" cy="47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4000" y="460440"/>
                  <a:ext cx="666720" cy="47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901080" y="460440"/>
                <a:ext cx="777240" cy="474120"/>
                <a:chOff x="901080" y="460440"/>
                <a:chExt cx="777240" cy="474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90108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"/>
                <p:cNvGrpSpPr/>
                <p:nvPr/>
              </p:nvGrpSpPr>
              <p:grpSpPr>
                <a:xfrm>
                  <a:off x="901080" y="460440"/>
                  <a:ext cx="776880" cy="474120"/>
                  <a:chOff x="901080" y="460440"/>
                  <a:chExt cx="776880" cy="4741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981000" y="460440"/>
                    <a:ext cx="61596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90108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" name=""/>
              <p:cNvGrpSpPr/>
              <p:nvPr/>
            </p:nvGrpSpPr>
            <p:grpSpPr>
              <a:xfrm>
                <a:off x="1679040" y="460440"/>
                <a:ext cx="777240" cy="474120"/>
                <a:chOff x="1679040" y="460440"/>
                <a:chExt cx="777240" cy="4741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67904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1679040" y="460440"/>
                  <a:ext cx="776880" cy="474120"/>
                  <a:chOff x="1679040" y="460440"/>
                  <a:chExt cx="776880" cy="47412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1759680" y="460440"/>
                    <a:ext cx="61560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67904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4" name=""/>
              <p:cNvGrpSpPr/>
              <p:nvPr/>
            </p:nvGrpSpPr>
            <p:grpSpPr>
              <a:xfrm>
                <a:off x="2457000" y="460440"/>
                <a:ext cx="777240" cy="474120"/>
                <a:chOff x="2457000" y="460440"/>
                <a:chExt cx="777240" cy="474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45700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" name=""/>
                <p:cNvGrpSpPr/>
                <p:nvPr/>
              </p:nvGrpSpPr>
              <p:grpSpPr>
                <a:xfrm>
                  <a:off x="2457000" y="460440"/>
                  <a:ext cx="776880" cy="474120"/>
                  <a:chOff x="2457000" y="460440"/>
                  <a:chExt cx="776880" cy="4741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2537640" y="460440"/>
                    <a:ext cx="61560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245700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9" name=""/>
              <p:cNvGrpSpPr/>
              <p:nvPr/>
            </p:nvGrpSpPr>
            <p:grpSpPr>
              <a:xfrm>
                <a:off x="3234960" y="460440"/>
                <a:ext cx="777240" cy="474120"/>
                <a:chOff x="3234960" y="460440"/>
                <a:chExt cx="777240" cy="474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23496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3234960" y="460440"/>
                  <a:ext cx="776880" cy="474120"/>
                  <a:chOff x="3234960" y="460440"/>
                  <a:chExt cx="776880" cy="4741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3315600" y="460440"/>
                    <a:ext cx="61560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23496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4" name=""/>
              <p:cNvGrpSpPr/>
              <p:nvPr/>
            </p:nvGrpSpPr>
            <p:grpSpPr>
              <a:xfrm>
                <a:off x="4012920" y="460440"/>
                <a:ext cx="777240" cy="474120"/>
                <a:chOff x="4012920" y="460440"/>
                <a:chExt cx="777240" cy="474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01292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4012920" y="460440"/>
                  <a:ext cx="776880" cy="474120"/>
                  <a:chOff x="4012920" y="460440"/>
                  <a:chExt cx="776880" cy="4741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4093560" y="460440"/>
                    <a:ext cx="61560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01292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4790880" y="460440"/>
                <a:ext cx="777240" cy="474120"/>
                <a:chOff x="4790880" y="460440"/>
                <a:chExt cx="777240" cy="474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79088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4790880" y="460440"/>
                  <a:ext cx="776880" cy="474120"/>
                  <a:chOff x="4790880" y="460440"/>
                  <a:chExt cx="776880" cy="474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871520" y="460440"/>
                    <a:ext cx="61560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479088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4" name=""/>
              <p:cNvGrpSpPr/>
              <p:nvPr/>
            </p:nvGrpSpPr>
            <p:grpSpPr>
              <a:xfrm>
                <a:off x="5568840" y="460440"/>
                <a:ext cx="777240" cy="474120"/>
                <a:chOff x="5568840" y="460440"/>
                <a:chExt cx="777240" cy="474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56884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" name=""/>
                <p:cNvGrpSpPr/>
                <p:nvPr/>
              </p:nvGrpSpPr>
              <p:grpSpPr>
                <a:xfrm>
                  <a:off x="5568840" y="460440"/>
                  <a:ext cx="776880" cy="474120"/>
                  <a:chOff x="5568840" y="460440"/>
                  <a:chExt cx="776880" cy="4741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5649480" y="460440"/>
                    <a:ext cx="61560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556884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" name=""/>
              <p:cNvGrpSpPr/>
              <p:nvPr/>
            </p:nvGrpSpPr>
            <p:grpSpPr>
              <a:xfrm>
                <a:off x="6346800" y="460440"/>
                <a:ext cx="777240" cy="474120"/>
                <a:chOff x="6346800" y="460440"/>
                <a:chExt cx="777240" cy="4741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34680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6346800" y="460440"/>
                  <a:ext cx="776880" cy="474120"/>
                  <a:chOff x="6346800" y="460440"/>
                  <a:chExt cx="776880" cy="47412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6427440" y="460440"/>
                    <a:ext cx="61596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34680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7124760" y="460440"/>
                <a:ext cx="777240" cy="474120"/>
                <a:chOff x="7124760" y="460440"/>
                <a:chExt cx="777240" cy="4741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12476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7124760" y="460440"/>
                  <a:ext cx="776880" cy="474120"/>
                  <a:chOff x="7124760" y="460440"/>
                  <a:chExt cx="776880" cy="4741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7205400" y="460440"/>
                    <a:ext cx="61596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12476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7902720" y="460440"/>
                <a:ext cx="777240" cy="474120"/>
                <a:chOff x="7902720" y="460440"/>
                <a:chExt cx="777240" cy="474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02720" y="460440"/>
                  <a:ext cx="777240" cy="4741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7902720" y="460440"/>
                  <a:ext cx="776880" cy="474120"/>
                  <a:chOff x="7902720" y="460440"/>
                  <a:chExt cx="776880" cy="4741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7983360" y="460440"/>
                    <a:ext cx="615960" cy="4741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902720" y="460440"/>
                    <a:ext cx="776880" cy="474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" name=""/>
              <p:cNvGrpSpPr/>
              <p:nvPr/>
            </p:nvGrpSpPr>
            <p:grpSpPr>
              <a:xfrm>
                <a:off x="234000" y="934560"/>
                <a:ext cx="666720" cy="452880"/>
                <a:chOff x="234000" y="934560"/>
                <a:chExt cx="666720" cy="452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14640" y="934560"/>
                  <a:ext cx="5054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4000" y="934560"/>
                  <a:ext cx="6667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901080" y="934560"/>
                <a:ext cx="777240" cy="452880"/>
                <a:chOff x="901080" y="934560"/>
                <a:chExt cx="777240" cy="452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90108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901080" y="934560"/>
                  <a:ext cx="776880" cy="452880"/>
                  <a:chOff x="901080" y="934560"/>
                  <a:chExt cx="776880" cy="4528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981000" y="934560"/>
                    <a:ext cx="61596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90108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1679040" y="934560"/>
                <a:ext cx="777240" cy="452880"/>
                <a:chOff x="1679040" y="934560"/>
                <a:chExt cx="777240" cy="4528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167904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1679040" y="934560"/>
                  <a:ext cx="776880" cy="452880"/>
                  <a:chOff x="1679040" y="934560"/>
                  <a:chExt cx="776880" cy="4528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1759680" y="93456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167904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2457000" y="934560"/>
                <a:ext cx="777240" cy="452880"/>
                <a:chOff x="2457000" y="934560"/>
                <a:chExt cx="777240" cy="4528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45700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"/>
                <p:cNvGrpSpPr/>
                <p:nvPr/>
              </p:nvGrpSpPr>
              <p:grpSpPr>
                <a:xfrm>
                  <a:off x="2457000" y="934560"/>
                  <a:ext cx="776880" cy="452880"/>
                  <a:chOff x="2457000" y="934560"/>
                  <a:chExt cx="776880" cy="45288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2537640" y="93456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45700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3234960" y="934560"/>
                <a:ext cx="777240" cy="452880"/>
                <a:chOff x="3234960" y="934560"/>
                <a:chExt cx="777240" cy="452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23496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3234960" y="934560"/>
                  <a:ext cx="776880" cy="452880"/>
                  <a:chOff x="3234960" y="934560"/>
                  <a:chExt cx="776880" cy="45288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315600" y="93456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23496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4012920" y="934560"/>
                <a:ext cx="777240" cy="452880"/>
                <a:chOff x="4012920" y="934560"/>
                <a:chExt cx="777240" cy="4528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1292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4012920" y="934560"/>
                  <a:ext cx="776880" cy="452880"/>
                  <a:chOff x="4012920" y="934560"/>
                  <a:chExt cx="776880" cy="45288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4093560" y="93456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01292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4790880" y="934560"/>
                <a:ext cx="777240" cy="452880"/>
                <a:chOff x="4790880" y="934560"/>
                <a:chExt cx="777240" cy="4528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79088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4790880" y="934560"/>
                  <a:ext cx="776880" cy="452880"/>
                  <a:chOff x="4790880" y="934560"/>
                  <a:chExt cx="776880" cy="452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4871520" y="93456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79088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"/>
              <p:cNvGrpSpPr/>
              <p:nvPr/>
            </p:nvGrpSpPr>
            <p:grpSpPr>
              <a:xfrm>
                <a:off x="5568840" y="934560"/>
                <a:ext cx="777240" cy="452880"/>
                <a:chOff x="5568840" y="934560"/>
                <a:chExt cx="777240" cy="4528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56884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5568840" y="934560"/>
                  <a:ext cx="776880" cy="452880"/>
                  <a:chOff x="5568840" y="934560"/>
                  <a:chExt cx="776880" cy="452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5649480" y="93456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556884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6346800" y="934560"/>
                <a:ext cx="777240" cy="452880"/>
                <a:chOff x="6346800" y="934560"/>
                <a:chExt cx="777240" cy="4528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34680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6346800" y="934560"/>
                  <a:ext cx="776880" cy="452880"/>
                  <a:chOff x="6346800" y="934560"/>
                  <a:chExt cx="776880" cy="4528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6427440" y="934560"/>
                    <a:ext cx="61596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634680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7124760" y="934560"/>
                <a:ext cx="777240" cy="452880"/>
                <a:chOff x="7124760" y="934560"/>
                <a:chExt cx="777240" cy="4528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12476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7124760" y="934560"/>
                  <a:ext cx="776880" cy="452880"/>
                  <a:chOff x="7124760" y="934560"/>
                  <a:chExt cx="776880" cy="45288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7205400" y="934560"/>
                    <a:ext cx="61596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12476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" name=""/>
              <p:cNvGrpSpPr/>
              <p:nvPr/>
            </p:nvGrpSpPr>
            <p:grpSpPr>
              <a:xfrm>
                <a:off x="7902720" y="934560"/>
                <a:ext cx="777240" cy="452880"/>
                <a:chOff x="7902720" y="934560"/>
                <a:chExt cx="777240" cy="4528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902720" y="93456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7902720" y="934560"/>
                  <a:ext cx="776880" cy="452880"/>
                  <a:chOff x="7902720" y="934560"/>
                  <a:chExt cx="776880" cy="45288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7983360" y="934560"/>
                    <a:ext cx="61596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7902720" y="934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" name=""/>
              <p:cNvGrpSpPr/>
              <p:nvPr/>
            </p:nvGrpSpPr>
            <p:grpSpPr>
              <a:xfrm>
                <a:off x="234000" y="1387440"/>
                <a:ext cx="666720" cy="462960"/>
                <a:chOff x="234000" y="1387440"/>
                <a:chExt cx="666720" cy="462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14640" y="1387440"/>
                  <a:ext cx="50544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34000" y="1387440"/>
                  <a:ext cx="666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901080" y="1387440"/>
                <a:ext cx="7778880" cy="462960"/>
                <a:chOff x="901080" y="1387440"/>
                <a:chExt cx="7778880" cy="462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01080" y="1387440"/>
                  <a:ext cx="7778880" cy="462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" name=""/>
                <p:cNvGrpSpPr/>
                <p:nvPr/>
              </p:nvGrpSpPr>
              <p:grpSpPr>
                <a:xfrm>
                  <a:off x="901080" y="1387440"/>
                  <a:ext cx="7778520" cy="462960"/>
                  <a:chOff x="901080" y="1387440"/>
                  <a:chExt cx="7778520" cy="4629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981360" y="1387440"/>
                    <a:ext cx="7617960" cy="462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632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ЗОНА СОЦИАЛЬНОГО БЛАГОПОЛУЧ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901080" y="1387440"/>
                    <a:ext cx="7778520" cy="46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234000" y="1850760"/>
                <a:ext cx="666720" cy="624960"/>
                <a:chOff x="234000" y="1850760"/>
                <a:chExt cx="666720" cy="624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14640" y="1850760"/>
                  <a:ext cx="50544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r>
                    <a:rPr b="1" lang="en-US" sz="13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34000" y="1850760"/>
                  <a:ext cx="666720" cy="62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901080" y="1850760"/>
                <a:ext cx="777240" cy="624960"/>
                <a:chOff x="901080" y="1850760"/>
                <a:chExt cx="777240" cy="6249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90108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901080" y="1850760"/>
                  <a:ext cx="776880" cy="624960"/>
                  <a:chOff x="901080" y="1850760"/>
                  <a:chExt cx="776880" cy="62496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981000" y="1850760"/>
                    <a:ext cx="61596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90108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" name=""/>
              <p:cNvGrpSpPr/>
              <p:nvPr/>
            </p:nvGrpSpPr>
            <p:grpSpPr>
              <a:xfrm>
                <a:off x="1679040" y="1850760"/>
                <a:ext cx="777240" cy="624960"/>
                <a:chOff x="1679040" y="1850760"/>
                <a:chExt cx="777240" cy="6249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167904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1679040" y="1850760"/>
                  <a:ext cx="776880" cy="624960"/>
                  <a:chOff x="1679040" y="1850760"/>
                  <a:chExt cx="776880" cy="62496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1759680" y="1850760"/>
                    <a:ext cx="61560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67904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8" name=""/>
              <p:cNvGrpSpPr/>
              <p:nvPr/>
            </p:nvGrpSpPr>
            <p:grpSpPr>
              <a:xfrm>
                <a:off x="2457000" y="1850760"/>
                <a:ext cx="777240" cy="624960"/>
                <a:chOff x="2457000" y="1850760"/>
                <a:chExt cx="777240" cy="624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45700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2457000" y="1850760"/>
                  <a:ext cx="776880" cy="624960"/>
                  <a:chOff x="2457000" y="1850760"/>
                  <a:chExt cx="776880" cy="6249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2537640" y="1850760"/>
                    <a:ext cx="61560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45700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" name=""/>
              <p:cNvGrpSpPr/>
              <p:nvPr/>
            </p:nvGrpSpPr>
            <p:grpSpPr>
              <a:xfrm>
                <a:off x="3234960" y="1850760"/>
                <a:ext cx="777240" cy="624960"/>
                <a:chOff x="3234960" y="1850760"/>
                <a:chExt cx="777240" cy="62496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23496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3234960" y="1850760"/>
                  <a:ext cx="776880" cy="624960"/>
                  <a:chOff x="3234960" y="1850760"/>
                  <a:chExt cx="776880" cy="6249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315600" y="1850760"/>
                    <a:ext cx="61560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23496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4012920" y="1850760"/>
                <a:ext cx="777240" cy="624960"/>
                <a:chOff x="4012920" y="1850760"/>
                <a:chExt cx="777240" cy="624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01292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4012920" y="1850760"/>
                  <a:ext cx="776880" cy="624960"/>
                  <a:chOff x="4012920" y="1850760"/>
                  <a:chExt cx="776880" cy="62496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093560" y="1850760"/>
                    <a:ext cx="61560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401292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4790880" y="1850760"/>
                <a:ext cx="777240" cy="624960"/>
                <a:chOff x="4790880" y="1850760"/>
                <a:chExt cx="777240" cy="624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79088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4790880" y="1850760"/>
                  <a:ext cx="776880" cy="624960"/>
                  <a:chOff x="4790880" y="1850760"/>
                  <a:chExt cx="776880" cy="62496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4871520" y="1850760"/>
                    <a:ext cx="61560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79088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" name=""/>
              <p:cNvGrpSpPr/>
              <p:nvPr/>
            </p:nvGrpSpPr>
            <p:grpSpPr>
              <a:xfrm>
                <a:off x="5568840" y="1850760"/>
                <a:ext cx="777240" cy="624960"/>
                <a:chOff x="5568840" y="1850760"/>
                <a:chExt cx="777240" cy="624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556884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5568840" y="1850760"/>
                  <a:ext cx="776880" cy="624960"/>
                  <a:chOff x="5568840" y="1850760"/>
                  <a:chExt cx="776880" cy="6249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649480" y="1850760"/>
                    <a:ext cx="61560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56884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3" name=""/>
              <p:cNvGrpSpPr/>
              <p:nvPr/>
            </p:nvGrpSpPr>
            <p:grpSpPr>
              <a:xfrm>
                <a:off x="6346800" y="1850760"/>
                <a:ext cx="777240" cy="624960"/>
                <a:chOff x="6346800" y="1850760"/>
                <a:chExt cx="777240" cy="6249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634680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6346800" y="1850760"/>
                  <a:ext cx="776880" cy="624960"/>
                  <a:chOff x="6346800" y="1850760"/>
                  <a:chExt cx="776880" cy="6249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6427440" y="1850760"/>
                    <a:ext cx="61596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34680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" name=""/>
              <p:cNvGrpSpPr/>
              <p:nvPr/>
            </p:nvGrpSpPr>
            <p:grpSpPr>
              <a:xfrm>
                <a:off x="7124760" y="1850760"/>
                <a:ext cx="777240" cy="624960"/>
                <a:chOff x="7124760" y="1850760"/>
                <a:chExt cx="777240" cy="624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12476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" name=""/>
                <p:cNvGrpSpPr/>
                <p:nvPr/>
              </p:nvGrpSpPr>
              <p:grpSpPr>
                <a:xfrm>
                  <a:off x="7124760" y="1850760"/>
                  <a:ext cx="776880" cy="624960"/>
                  <a:chOff x="7124760" y="1850760"/>
                  <a:chExt cx="776880" cy="62496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7205400" y="1850760"/>
                    <a:ext cx="61596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12476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7902720" y="1850760"/>
                <a:ext cx="777240" cy="624960"/>
                <a:chOff x="7902720" y="1850760"/>
                <a:chExt cx="777240" cy="6249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02720" y="1850760"/>
                  <a:ext cx="777240" cy="6249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7902720" y="1850760"/>
                  <a:ext cx="776880" cy="624960"/>
                  <a:chOff x="7902720" y="1850760"/>
                  <a:chExt cx="776880" cy="62496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7983360" y="1850760"/>
                    <a:ext cx="615960" cy="62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902720" y="18507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8" name=""/>
              <p:cNvGrpSpPr/>
              <p:nvPr/>
            </p:nvGrpSpPr>
            <p:grpSpPr>
              <a:xfrm>
                <a:off x="234000" y="2475720"/>
                <a:ext cx="666720" cy="462600"/>
                <a:chOff x="234000" y="2475720"/>
                <a:chExt cx="666720" cy="46260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14640" y="2475720"/>
                  <a:ext cx="505440" cy="46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34000" y="2475720"/>
                  <a:ext cx="666720" cy="46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901080" y="2475720"/>
                <a:ext cx="7778880" cy="462600"/>
                <a:chOff x="901080" y="2475720"/>
                <a:chExt cx="7778880" cy="4626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901080" y="2475720"/>
                  <a:ext cx="7778880" cy="4626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901080" y="2475720"/>
                  <a:ext cx="7778520" cy="462600"/>
                  <a:chOff x="901080" y="2475720"/>
                  <a:chExt cx="7778520" cy="4626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981360" y="2475720"/>
                    <a:ext cx="7617960" cy="4626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632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Граница социального риска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901080" y="2475720"/>
                    <a:ext cx="7778520" cy="462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234000" y="2938320"/>
                <a:ext cx="666720" cy="452880"/>
                <a:chOff x="234000" y="2938320"/>
                <a:chExt cx="666720" cy="4528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14640" y="2938320"/>
                  <a:ext cx="5054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34000" y="2938320"/>
                  <a:ext cx="6667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901080" y="2938320"/>
                <a:ext cx="777240" cy="452880"/>
                <a:chOff x="901080" y="2938320"/>
                <a:chExt cx="777240" cy="4528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90108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1" name=""/>
                <p:cNvGrpSpPr/>
                <p:nvPr/>
              </p:nvGrpSpPr>
              <p:grpSpPr>
                <a:xfrm>
                  <a:off x="901080" y="2938320"/>
                  <a:ext cx="776880" cy="452880"/>
                  <a:chOff x="901080" y="2938320"/>
                  <a:chExt cx="776880" cy="45288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981000" y="2938320"/>
                    <a:ext cx="61596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90108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4" name=""/>
              <p:cNvGrpSpPr/>
              <p:nvPr/>
            </p:nvGrpSpPr>
            <p:grpSpPr>
              <a:xfrm>
                <a:off x="1679040" y="2938320"/>
                <a:ext cx="777240" cy="452880"/>
                <a:chOff x="1679040" y="2938320"/>
                <a:chExt cx="777240" cy="4528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67904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1679040" y="2938320"/>
                  <a:ext cx="776880" cy="452880"/>
                  <a:chOff x="1679040" y="2938320"/>
                  <a:chExt cx="776880" cy="4528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1759680" y="293832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67904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9" name=""/>
              <p:cNvGrpSpPr/>
              <p:nvPr/>
            </p:nvGrpSpPr>
            <p:grpSpPr>
              <a:xfrm>
                <a:off x="2457000" y="2938320"/>
                <a:ext cx="777240" cy="452880"/>
                <a:chOff x="2457000" y="2938320"/>
                <a:chExt cx="777240" cy="4528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45700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" name=""/>
                <p:cNvGrpSpPr/>
                <p:nvPr/>
              </p:nvGrpSpPr>
              <p:grpSpPr>
                <a:xfrm>
                  <a:off x="2457000" y="2938320"/>
                  <a:ext cx="776880" cy="452880"/>
                  <a:chOff x="2457000" y="2938320"/>
                  <a:chExt cx="776880" cy="4528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2537640" y="293832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45700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4" name=""/>
              <p:cNvGrpSpPr/>
              <p:nvPr/>
            </p:nvGrpSpPr>
            <p:grpSpPr>
              <a:xfrm>
                <a:off x="3234960" y="2938320"/>
                <a:ext cx="777240" cy="452880"/>
                <a:chOff x="3234960" y="2938320"/>
                <a:chExt cx="777240" cy="4528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323496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3234960" y="2938320"/>
                  <a:ext cx="776880" cy="452880"/>
                  <a:chOff x="3234960" y="2938320"/>
                  <a:chExt cx="776880" cy="4528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3315600" y="293832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23496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9" name=""/>
              <p:cNvGrpSpPr/>
              <p:nvPr/>
            </p:nvGrpSpPr>
            <p:grpSpPr>
              <a:xfrm>
                <a:off x="4012920" y="2938320"/>
                <a:ext cx="777240" cy="452880"/>
                <a:chOff x="4012920" y="2938320"/>
                <a:chExt cx="777240" cy="4528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01292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4012920" y="2938320"/>
                  <a:ext cx="776880" cy="452880"/>
                  <a:chOff x="4012920" y="2938320"/>
                  <a:chExt cx="776880" cy="4528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4093560" y="293832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01292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" name=""/>
              <p:cNvGrpSpPr/>
              <p:nvPr/>
            </p:nvGrpSpPr>
            <p:grpSpPr>
              <a:xfrm>
                <a:off x="4790880" y="2938320"/>
                <a:ext cx="777240" cy="452880"/>
                <a:chOff x="4790880" y="2938320"/>
                <a:chExt cx="777240" cy="4528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79088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"/>
                <p:cNvGrpSpPr/>
                <p:nvPr/>
              </p:nvGrpSpPr>
              <p:grpSpPr>
                <a:xfrm>
                  <a:off x="4790880" y="2938320"/>
                  <a:ext cx="776880" cy="452880"/>
                  <a:chOff x="4790880" y="2938320"/>
                  <a:chExt cx="776880" cy="4528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4871520" y="293832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79088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" name=""/>
              <p:cNvGrpSpPr/>
              <p:nvPr/>
            </p:nvGrpSpPr>
            <p:grpSpPr>
              <a:xfrm>
                <a:off x="5568840" y="2938320"/>
                <a:ext cx="777240" cy="452880"/>
                <a:chOff x="5568840" y="2938320"/>
                <a:chExt cx="777240" cy="4528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56884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" name=""/>
                <p:cNvGrpSpPr/>
                <p:nvPr/>
              </p:nvGrpSpPr>
              <p:grpSpPr>
                <a:xfrm>
                  <a:off x="5568840" y="2938320"/>
                  <a:ext cx="776880" cy="452880"/>
                  <a:chOff x="5568840" y="2938320"/>
                  <a:chExt cx="776880" cy="4528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5649480" y="2938320"/>
                    <a:ext cx="61560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556884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4" name=""/>
              <p:cNvGrpSpPr/>
              <p:nvPr/>
            </p:nvGrpSpPr>
            <p:grpSpPr>
              <a:xfrm>
                <a:off x="6346800" y="2938320"/>
                <a:ext cx="777240" cy="452880"/>
                <a:chOff x="6346800" y="2938320"/>
                <a:chExt cx="777240" cy="4528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34680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6346800" y="2938320"/>
                  <a:ext cx="776880" cy="452880"/>
                  <a:chOff x="6346800" y="2938320"/>
                  <a:chExt cx="776880" cy="45288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6427440" y="2938320"/>
                    <a:ext cx="61596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634680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9" name=""/>
              <p:cNvGrpSpPr/>
              <p:nvPr/>
            </p:nvGrpSpPr>
            <p:grpSpPr>
              <a:xfrm>
                <a:off x="7124760" y="2938320"/>
                <a:ext cx="777240" cy="452880"/>
                <a:chOff x="7124760" y="2938320"/>
                <a:chExt cx="777240" cy="4528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712476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" name=""/>
                <p:cNvGrpSpPr/>
                <p:nvPr/>
              </p:nvGrpSpPr>
              <p:grpSpPr>
                <a:xfrm>
                  <a:off x="7124760" y="2938320"/>
                  <a:ext cx="776880" cy="452880"/>
                  <a:chOff x="7124760" y="2938320"/>
                  <a:chExt cx="776880" cy="4528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7205400" y="2938320"/>
                    <a:ext cx="61596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12476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7902720" y="2938320"/>
                <a:ext cx="777240" cy="452880"/>
                <a:chOff x="7902720" y="2938320"/>
                <a:chExt cx="777240" cy="4528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7902720" y="2938320"/>
                  <a:ext cx="777240" cy="452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7902720" y="2938320"/>
                  <a:ext cx="776880" cy="452880"/>
                  <a:chOff x="7902720" y="2938320"/>
                  <a:chExt cx="776880" cy="4528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7983360" y="2938320"/>
                    <a:ext cx="615960" cy="452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902720" y="293832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"/>
              <p:cNvGrpSpPr/>
              <p:nvPr/>
            </p:nvGrpSpPr>
            <p:grpSpPr>
              <a:xfrm>
                <a:off x="234000" y="3391560"/>
                <a:ext cx="666720" cy="452880"/>
                <a:chOff x="234000" y="3391560"/>
                <a:chExt cx="666720" cy="4528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14640" y="3391560"/>
                  <a:ext cx="5054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34000" y="3391560"/>
                  <a:ext cx="6667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901080" y="3391560"/>
                <a:ext cx="777240" cy="452880"/>
                <a:chOff x="901080" y="3391560"/>
                <a:chExt cx="777240" cy="4528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90108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901080" y="3391560"/>
                  <a:ext cx="776880" cy="452880"/>
                  <a:chOff x="901080" y="3391560"/>
                  <a:chExt cx="776880" cy="45288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981000" y="3391560"/>
                    <a:ext cx="61596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90108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1679040" y="3391560"/>
                <a:ext cx="777240" cy="452880"/>
                <a:chOff x="1679040" y="3391560"/>
                <a:chExt cx="777240" cy="4528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67904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1679040" y="3391560"/>
                  <a:ext cx="776880" cy="452880"/>
                  <a:chOff x="1679040" y="3391560"/>
                  <a:chExt cx="776880" cy="4528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1759680" y="33915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67904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2457000" y="3391560"/>
                <a:ext cx="777240" cy="452880"/>
                <a:chOff x="2457000" y="3391560"/>
                <a:chExt cx="777240" cy="4528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45700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2457000" y="3391560"/>
                  <a:ext cx="776880" cy="452880"/>
                  <a:chOff x="2457000" y="3391560"/>
                  <a:chExt cx="776880" cy="45288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537640" y="33915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45700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3234960" y="3391560"/>
                <a:ext cx="777240" cy="452880"/>
                <a:chOff x="3234960" y="3391560"/>
                <a:chExt cx="777240" cy="4528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323496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" name=""/>
                <p:cNvGrpSpPr/>
                <p:nvPr/>
              </p:nvGrpSpPr>
              <p:grpSpPr>
                <a:xfrm>
                  <a:off x="3234960" y="3391560"/>
                  <a:ext cx="776880" cy="452880"/>
                  <a:chOff x="3234960" y="3391560"/>
                  <a:chExt cx="776880" cy="45288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3315600" y="33915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323496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4012920" y="3391560"/>
                <a:ext cx="777240" cy="452880"/>
                <a:chOff x="4012920" y="3391560"/>
                <a:chExt cx="777240" cy="4528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01292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4012920" y="3391560"/>
                  <a:ext cx="776880" cy="452880"/>
                  <a:chOff x="4012920" y="3391560"/>
                  <a:chExt cx="776880" cy="452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>
                    <a:off x="4093560" y="33915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01292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790880" y="3391560"/>
                <a:ext cx="777240" cy="452880"/>
                <a:chOff x="4790880" y="3391560"/>
                <a:chExt cx="777240" cy="4528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79088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790880" y="3391560"/>
                  <a:ext cx="776880" cy="452880"/>
                  <a:chOff x="4790880" y="3391560"/>
                  <a:chExt cx="776880" cy="4528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871520" y="33915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79088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"/>
              <p:cNvGrpSpPr/>
              <p:nvPr/>
            </p:nvGrpSpPr>
            <p:grpSpPr>
              <a:xfrm>
                <a:off x="5568840" y="3391560"/>
                <a:ext cx="777240" cy="452880"/>
                <a:chOff x="5568840" y="3391560"/>
                <a:chExt cx="777240" cy="4528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56884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5568840" y="3391560"/>
                  <a:ext cx="776880" cy="452880"/>
                  <a:chOff x="5568840" y="3391560"/>
                  <a:chExt cx="776880" cy="4528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5649480" y="33915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56884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7" name=""/>
              <p:cNvGrpSpPr/>
              <p:nvPr/>
            </p:nvGrpSpPr>
            <p:grpSpPr>
              <a:xfrm>
                <a:off x="6346800" y="3391560"/>
                <a:ext cx="777240" cy="452880"/>
                <a:chOff x="6346800" y="3391560"/>
                <a:chExt cx="777240" cy="4528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34680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6346800" y="3391560"/>
                  <a:ext cx="776880" cy="452880"/>
                  <a:chOff x="6346800" y="3391560"/>
                  <a:chExt cx="776880" cy="4528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6427440" y="3391560"/>
                    <a:ext cx="61596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34680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2" name=""/>
              <p:cNvGrpSpPr/>
              <p:nvPr/>
            </p:nvGrpSpPr>
            <p:grpSpPr>
              <a:xfrm>
                <a:off x="7124760" y="3391560"/>
                <a:ext cx="777240" cy="452880"/>
                <a:chOff x="7124760" y="3391560"/>
                <a:chExt cx="777240" cy="4528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712476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7124760" y="3391560"/>
                  <a:ext cx="776880" cy="452880"/>
                  <a:chOff x="7124760" y="3391560"/>
                  <a:chExt cx="776880" cy="4528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7205400" y="3391560"/>
                    <a:ext cx="61596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12476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7902720" y="3391560"/>
                <a:ext cx="777240" cy="452880"/>
                <a:chOff x="7902720" y="3391560"/>
                <a:chExt cx="777240" cy="4528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902720" y="33915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7902720" y="3391560"/>
                  <a:ext cx="776880" cy="452880"/>
                  <a:chOff x="7902720" y="3391560"/>
                  <a:chExt cx="776880" cy="4528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7983360" y="3391560"/>
                    <a:ext cx="61596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7902720" y="33915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234000" y="3844440"/>
                <a:ext cx="666720" cy="462960"/>
                <a:chOff x="234000" y="3844440"/>
                <a:chExt cx="666720" cy="4629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14640" y="3844440"/>
                  <a:ext cx="50544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34000" y="3844440"/>
                  <a:ext cx="666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901080" y="3844440"/>
                <a:ext cx="7778880" cy="462960"/>
                <a:chOff x="901080" y="3844440"/>
                <a:chExt cx="7778880" cy="4629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901080" y="3844440"/>
                  <a:ext cx="7778880" cy="46296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901080" y="3844440"/>
                  <a:ext cx="7778520" cy="462960"/>
                  <a:chOff x="901080" y="3844440"/>
                  <a:chExt cx="7778520" cy="4629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981360" y="3844440"/>
                    <a:ext cx="7617960" cy="46296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632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ЗОНА СОЦИАЛЬНОЙ УГРОЗ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901080" y="3844440"/>
                    <a:ext cx="7778520" cy="46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"/>
              <p:cNvGrpSpPr/>
              <p:nvPr/>
            </p:nvGrpSpPr>
            <p:grpSpPr>
              <a:xfrm>
                <a:off x="234000" y="4307760"/>
                <a:ext cx="666720" cy="452880"/>
                <a:chOff x="234000" y="4307760"/>
                <a:chExt cx="666720" cy="45288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14640" y="4307760"/>
                  <a:ext cx="5054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34000" y="4307760"/>
                  <a:ext cx="66672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901080" y="4307760"/>
                <a:ext cx="777240" cy="452880"/>
                <a:chOff x="901080" y="4307760"/>
                <a:chExt cx="777240" cy="4528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90108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" name=""/>
                <p:cNvGrpSpPr/>
                <p:nvPr/>
              </p:nvGrpSpPr>
              <p:grpSpPr>
                <a:xfrm>
                  <a:off x="901080" y="4307760"/>
                  <a:ext cx="776880" cy="452880"/>
                  <a:chOff x="901080" y="4307760"/>
                  <a:chExt cx="776880" cy="4528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981000" y="4307760"/>
                    <a:ext cx="61596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90108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8" name=""/>
              <p:cNvGrpSpPr/>
              <p:nvPr/>
            </p:nvGrpSpPr>
            <p:grpSpPr>
              <a:xfrm>
                <a:off x="1679040" y="4307760"/>
                <a:ext cx="777240" cy="452880"/>
                <a:chOff x="1679040" y="4307760"/>
                <a:chExt cx="777240" cy="4528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67904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"/>
                <p:cNvGrpSpPr/>
                <p:nvPr/>
              </p:nvGrpSpPr>
              <p:grpSpPr>
                <a:xfrm>
                  <a:off x="1679040" y="4307760"/>
                  <a:ext cx="776880" cy="452880"/>
                  <a:chOff x="1679040" y="4307760"/>
                  <a:chExt cx="776880" cy="45288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1759680" y="43077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167904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2457000" y="4307760"/>
                <a:ext cx="777240" cy="452880"/>
                <a:chOff x="2457000" y="4307760"/>
                <a:chExt cx="777240" cy="452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45700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"/>
                <p:cNvGrpSpPr/>
                <p:nvPr/>
              </p:nvGrpSpPr>
              <p:grpSpPr>
                <a:xfrm>
                  <a:off x="2457000" y="4307760"/>
                  <a:ext cx="776880" cy="452880"/>
                  <a:chOff x="2457000" y="4307760"/>
                  <a:chExt cx="776880" cy="45288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2537640" y="43077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45700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234960" y="4307760"/>
                <a:ext cx="777240" cy="452880"/>
                <a:chOff x="3234960" y="4307760"/>
                <a:chExt cx="777240" cy="4528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323496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3234960" y="4307760"/>
                  <a:ext cx="776880" cy="452880"/>
                  <a:chOff x="3234960" y="4307760"/>
                  <a:chExt cx="776880" cy="45288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3315600" y="43077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323496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012920" y="4307760"/>
                <a:ext cx="777240" cy="452880"/>
                <a:chOff x="4012920" y="4307760"/>
                <a:chExt cx="777240" cy="4528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01292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4012920" y="4307760"/>
                  <a:ext cx="776880" cy="452880"/>
                  <a:chOff x="4012920" y="4307760"/>
                  <a:chExt cx="776880" cy="45288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4093560" y="43077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401292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4790880" y="4307760"/>
                <a:ext cx="777240" cy="452880"/>
                <a:chOff x="4790880" y="4307760"/>
                <a:chExt cx="777240" cy="4528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79088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" name=""/>
                <p:cNvGrpSpPr/>
                <p:nvPr/>
              </p:nvGrpSpPr>
              <p:grpSpPr>
                <a:xfrm>
                  <a:off x="4790880" y="4307760"/>
                  <a:ext cx="776880" cy="452880"/>
                  <a:chOff x="4790880" y="4307760"/>
                  <a:chExt cx="776880" cy="4528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4871520" y="43077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79088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3" name=""/>
              <p:cNvGrpSpPr/>
              <p:nvPr/>
            </p:nvGrpSpPr>
            <p:grpSpPr>
              <a:xfrm>
                <a:off x="5568840" y="4307760"/>
                <a:ext cx="777240" cy="452880"/>
                <a:chOff x="5568840" y="4307760"/>
                <a:chExt cx="777240" cy="4528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56884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5568840" y="4307760"/>
                  <a:ext cx="776880" cy="452880"/>
                  <a:chOff x="5568840" y="4307760"/>
                  <a:chExt cx="776880" cy="45288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5649480" y="4307760"/>
                    <a:ext cx="61560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56884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6346800" y="4307760"/>
                <a:ext cx="777240" cy="452880"/>
                <a:chOff x="6346800" y="4307760"/>
                <a:chExt cx="777240" cy="4528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34680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6346800" y="4307760"/>
                  <a:ext cx="776880" cy="452880"/>
                  <a:chOff x="6346800" y="4307760"/>
                  <a:chExt cx="776880" cy="45288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6427440" y="4307760"/>
                    <a:ext cx="61596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34680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3" name=""/>
              <p:cNvGrpSpPr/>
              <p:nvPr/>
            </p:nvGrpSpPr>
            <p:grpSpPr>
              <a:xfrm>
                <a:off x="7124760" y="4307760"/>
                <a:ext cx="777240" cy="452880"/>
                <a:chOff x="7124760" y="4307760"/>
                <a:chExt cx="777240" cy="4528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12476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7124760" y="4307760"/>
                  <a:ext cx="776880" cy="452880"/>
                  <a:chOff x="7124760" y="4307760"/>
                  <a:chExt cx="776880" cy="45288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7205400" y="4307760"/>
                    <a:ext cx="61596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12476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7902720" y="4307760"/>
                <a:ext cx="777240" cy="452880"/>
                <a:chOff x="7902720" y="4307760"/>
                <a:chExt cx="777240" cy="4528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902720" y="4307760"/>
                  <a:ext cx="777240" cy="45288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7902720" y="4307760"/>
                  <a:ext cx="776880" cy="452880"/>
                  <a:chOff x="7902720" y="4307760"/>
                  <a:chExt cx="776880" cy="452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>
                    <a:off x="7983360" y="4307760"/>
                    <a:ext cx="615960" cy="452880"/>
                  </a:xfrm>
                  <a:prstGeom prst="rect">
                    <a:avLst/>
                  </a:pr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902720" y="4307760"/>
                    <a:ext cx="776880" cy="452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3" name=""/>
              <p:cNvGrpSpPr/>
              <p:nvPr/>
            </p:nvGrpSpPr>
            <p:grpSpPr>
              <a:xfrm>
                <a:off x="234000" y="4760640"/>
                <a:ext cx="666720" cy="624600"/>
                <a:chOff x="234000" y="4760640"/>
                <a:chExt cx="666720" cy="6246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314640" y="4760640"/>
                  <a:ext cx="505440" cy="62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34000" y="4760640"/>
                  <a:ext cx="666720" cy="62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901080" y="4760640"/>
                <a:ext cx="777240" cy="624600"/>
                <a:chOff x="901080" y="4760640"/>
                <a:chExt cx="777240" cy="6246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90108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901080" y="4760640"/>
                  <a:ext cx="776880" cy="624600"/>
                  <a:chOff x="901080" y="4760640"/>
                  <a:chExt cx="776880" cy="62460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981000" y="4760640"/>
                    <a:ext cx="61596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90108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1679040" y="4760640"/>
                <a:ext cx="777240" cy="624600"/>
                <a:chOff x="1679040" y="4760640"/>
                <a:chExt cx="777240" cy="6246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67904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1679040" y="4760640"/>
                  <a:ext cx="776880" cy="624600"/>
                  <a:chOff x="1679040" y="4760640"/>
                  <a:chExt cx="776880" cy="62460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1759680" y="4760640"/>
                    <a:ext cx="61560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167904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2457000" y="4760640"/>
                <a:ext cx="777240" cy="624600"/>
                <a:chOff x="2457000" y="4760640"/>
                <a:chExt cx="777240" cy="6246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45700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457000" y="4760640"/>
                  <a:ext cx="776880" cy="624600"/>
                  <a:chOff x="2457000" y="4760640"/>
                  <a:chExt cx="776880" cy="6246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2537640" y="4760640"/>
                    <a:ext cx="61560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45700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3234960" y="4760640"/>
                <a:ext cx="777240" cy="624600"/>
                <a:chOff x="3234960" y="4760640"/>
                <a:chExt cx="777240" cy="62460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323496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3234960" y="4760640"/>
                  <a:ext cx="776880" cy="624600"/>
                  <a:chOff x="3234960" y="4760640"/>
                  <a:chExt cx="776880" cy="62460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3315600" y="4760640"/>
                    <a:ext cx="61560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323496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4012920" y="4760640"/>
                <a:ext cx="777240" cy="624600"/>
                <a:chOff x="4012920" y="4760640"/>
                <a:chExt cx="777240" cy="6246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01292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012920" y="4760640"/>
                  <a:ext cx="776880" cy="624600"/>
                  <a:chOff x="4012920" y="4760640"/>
                  <a:chExt cx="776880" cy="6246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093560" y="4760640"/>
                    <a:ext cx="61560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401292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4790880" y="4760640"/>
                <a:ext cx="777240" cy="624600"/>
                <a:chOff x="4790880" y="4760640"/>
                <a:chExt cx="777240" cy="62460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479088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4790880" y="4760640"/>
                  <a:ext cx="776880" cy="624600"/>
                  <a:chOff x="4790880" y="4760640"/>
                  <a:chExt cx="776880" cy="6246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4871520" y="4760640"/>
                    <a:ext cx="61560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479088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5568840" y="4760640"/>
                <a:ext cx="777240" cy="624600"/>
                <a:chOff x="5568840" y="4760640"/>
                <a:chExt cx="777240" cy="62460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556884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5568840" y="4760640"/>
                  <a:ext cx="776880" cy="624600"/>
                  <a:chOff x="5568840" y="4760640"/>
                  <a:chExt cx="776880" cy="62460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5649480" y="4760640"/>
                    <a:ext cx="61560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556884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6346800" y="4760640"/>
                <a:ext cx="777240" cy="624600"/>
                <a:chOff x="6346800" y="4760640"/>
                <a:chExt cx="777240" cy="6246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34680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6346800" y="4760640"/>
                  <a:ext cx="776880" cy="624600"/>
                  <a:chOff x="6346800" y="4760640"/>
                  <a:chExt cx="776880" cy="6246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6427440" y="4760640"/>
                    <a:ext cx="61596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34680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7124760" y="4760640"/>
                <a:ext cx="777240" cy="624600"/>
                <a:chOff x="7124760" y="4760640"/>
                <a:chExt cx="777240" cy="62460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712476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7124760" y="4760640"/>
                  <a:ext cx="776880" cy="624600"/>
                  <a:chOff x="7124760" y="4760640"/>
                  <a:chExt cx="776880" cy="62460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7205400" y="4760640"/>
                    <a:ext cx="61596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712476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902720" y="4760640"/>
                <a:ext cx="777240" cy="624600"/>
                <a:chOff x="7902720" y="4760640"/>
                <a:chExt cx="777240" cy="6246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902720" y="4760640"/>
                  <a:ext cx="777240" cy="62460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902720" y="4760640"/>
                  <a:ext cx="776880" cy="624600"/>
                  <a:chOff x="7902720" y="4760640"/>
                  <a:chExt cx="776880" cy="62460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983360" y="4760640"/>
                    <a:ext cx="615960" cy="62460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902720" y="4760640"/>
                    <a:ext cx="776880" cy="6246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6" name=""/>
              <p:cNvGrpSpPr/>
              <p:nvPr/>
            </p:nvGrpSpPr>
            <p:grpSpPr>
              <a:xfrm>
                <a:off x="234000" y="5385240"/>
                <a:ext cx="666720" cy="462960"/>
                <a:chOff x="234000" y="5385240"/>
                <a:chExt cx="666720" cy="4629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314640" y="5385240"/>
                  <a:ext cx="50544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34000" y="5385240"/>
                  <a:ext cx="6667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901080" y="5385240"/>
                <a:ext cx="7778880" cy="462960"/>
                <a:chOff x="901080" y="5385240"/>
                <a:chExt cx="7778880" cy="4629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901080" y="5385240"/>
                  <a:ext cx="7778880" cy="462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1" name=""/>
                <p:cNvGrpSpPr/>
                <p:nvPr/>
              </p:nvGrpSpPr>
              <p:grpSpPr>
                <a:xfrm>
                  <a:off x="901080" y="5385240"/>
                  <a:ext cx="7778520" cy="462960"/>
                  <a:chOff x="901080" y="5385240"/>
                  <a:chExt cx="7778520" cy="462960"/>
                </a:xfrm>
              </p:grpSpPr>
              <p:sp>
                <p:nvSpPr>
                  <p:cNvPr id="552" name=""/>
                  <p:cNvSpPr/>
                  <p:nvPr/>
                </p:nvSpPr>
                <p:spPr>
                  <a:xfrm>
                    <a:off x="981360" y="5385240"/>
                    <a:ext cx="7617960" cy="462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632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ЗОНА СОЦИАЛЬНОЙ ДЕГРАДАЦИ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901080" y="5385240"/>
                    <a:ext cx="7778520" cy="46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234000" y="5848560"/>
                <a:ext cx="666720" cy="624960"/>
                <a:chOff x="234000" y="5848560"/>
                <a:chExt cx="666720" cy="6249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314640" y="5848560"/>
                  <a:ext cx="505440" cy="62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34000" y="5848560"/>
                  <a:ext cx="666720" cy="62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901080" y="5848560"/>
                <a:ext cx="777240" cy="624960"/>
                <a:chOff x="901080" y="5848560"/>
                <a:chExt cx="777240" cy="6249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90108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9" name=""/>
                <p:cNvGrpSpPr/>
                <p:nvPr/>
              </p:nvGrpSpPr>
              <p:grpSpPr>
                <a:xfrm>
                  <a:off x="901080" y="5848560"/>
                  <a:ext cx="776880" cy="624960"/>
                  <a:chOff x="901080" y="5848560"/>
                  <a:chExt cx="776880" cy="62496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>
                    <a:off x="981000" y="5848560"/>
                    <a:ext cx="61596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90108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2" name=""/>
              <p:cNvGrpSpPr/>
              <p:nvPr/>
            </p:nvGrpSpPr>
            <p:grpSpPr>
              <a:xfrm>
                <a:off x="1679040" y="5848560"/>
                <a:ext cx="777240" cy="624960"/>
                <a:chOff x="1679040" y="5848560"/>
                <a:chExt cx="777240" cy="62496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67904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4" name=""/>
                <p:cNvGrpSpPr/>
                <p:nvPr/>
              </p:nvGrpSpPr>
              <p:grpSpPr>
                <a:xfrm>
                  <a:off x="1679040" y="5848560"/>
                  <a:ext cx="776880" cy="624960"/>
                  <a:chOff x="1679040" y="5848560"/>
                  <a:chExt cx="776880" cy="62496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1759680" y="5848560"/>
                    <a:ext cx="61560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67904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7" name=""/>
              <p:cNvGrpSpPr/>
              <p:nvPr/>
            </p:nvGrpSpPr>
            <p:grpSpPr>
              <a:xfrm>
                <a:off x="2457000" y="5848560"/>
                <a:ext cx="777240" cy="624960"/>
                <a:chOff x="2457000" y="5848560"/>
                <a:chExt cx="777240" cy="6249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245700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" name=""/>
                <p:cNvGrpSpPr/>
                <p:nvPr/>
              </p:nvGrpSpPr>
              <p:grpSpPr>
                <a:xfrm>
                  <a:off x="2457000" y="5848560"/>
                  <a:ext cx="776880" cy="624960"/>
                  <a:chOff x="2457000" y="5848560"/>
                  <a:chExt cx="776880" cy="62496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2537640" y="5848560"/>
                    <a:ext cx="61560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45700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2" name=""/>
              <p:cNvGrpSpPr/>
              <p:nvPr/>
            </p:nvGrpSpPr>
            <p:grpSpPr>
              <a:xfrm>
                <a:off x="3234960" y="5848560"/>
                <a:ext cx="777240" cy="624960"/>
                <a:chOff x="3234960" y="5848560"/>
                <a:chExt cx="777240" cy="6249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323496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3234960" y="5848560"/>
                  <a:ext cx="776880" cy="624960"/>
                  <a:chOff x="3234960" y="5848560"/>
                  <a:chExt cx="776880" cy="6249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3315600" y="5848560"/>
                    <a:ext cx="61560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23496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4012920" y="5848560"/>
                <a:ext cx="777240" cy="624960"/>
                <a:chOff x="4012920" y="5848560"/>
                <a:chExt cx="777240" cy="6249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01292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9" name=""/>
                <p:cNvGrpSpPr/>
                <p:nvPr/>
              </p:nvGrpSpPr>
              <p:grpSpPr>
                <a:xfrm>
                  <a:off x="4012920" y="5848560"/>
                  <a:ext cx="776880" cy="624960"/>
                  <a:chOff x="4012920" y="5848560"/>
                  <a:chExt cx="776880" cy="62496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4093560" y="5848560"/>
                    <a:ext cx="61560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401292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2" name=""/>
              <p:cNvGrpSpPr/>
              <p:nvPr/>
            </p:nvGrpSpPr>
            <p:grpSpPr>
              <a:xfrm>
                <a:off x="4790880" y="5848560"/>
                <a:ext cx="777240" cy="624960"/>
                <a:chOff x="4790880" y="5848560"/>
                <a:chExt cx="777240" cy="6249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79088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4790880" y="5848560"/>
                  <a:ext cx="776880" cy="624960"/>
                  <a:chOff x="4790880" y="5848560"/>
                  <a:chExt cx="776880" cy="62496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4871520" y="5848560"/>
                    <a:ext cx="61560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479088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5568840" y="5848560"/>
                <a:ext cx="777240" cy="624960"/>
                <a:chOff x="5568840" y="5848560"/>
                <a:chExt cx="777240" cy="624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556884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5568840" y="5848560"/>
                  <a:ext cx="776880" cy="624960"/>
                  <a:chOff x="5568840" y="5848560"/>
                  <a:chExt cx="776880" cy="62496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5649480" y="5848560"/>
                    <a:ext cx="61560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56884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2" name=""/>
              <p:cNvGrpSpPr/>
              <p:nvPr/>
            </p:nvGrpSpPr>
            <p:grpSpPr>
              <a:xfrm>
                <a:off x="6346800" y="5848560"/>
                <a:ext cx="777240" cy="624960"/>
                <a:chOff x="6346800" y="5848560"/>
                <a:chExt cx="777240" cy="624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34680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6346800" y="5848560"/>
                  <a:ext cx="776880" cy="624960"/>
                  <a:chOff x="6346800" y="5848560"/>
                  <a:chExt cx="776880" cy="6249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6427440" y="5848560"/>
                    <a:ext cx="61596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634680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7" name=""/>
              <p:cNvGrpSpPr/>
              <p:nvPr/>
            </p:nvGrpSpPr>
            <p:grpSpPr>
              <a:xfrm>
                <a:off x="7124760" y="5848560"/>
                <a:ext cx="777240" cy="624960"/>
                <a:chOff x="7124760" y="5848560"/>
                <a:chExt cx="777240" cy="62496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712476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"/>
                <p:cNvGrpSpPr/>
                <p:nvPr/>
              </p:nvGrpSpPr>
              <p:grpSpPr>
                <a:xfrm>
                  <a:off x="7124760" y="5848560"/>
                  <a:ext cx="776880" cy="624960"/>
                  <a:chOff x="7124760" y="5848560"/>
                  <a:chExt cx="776880" cy="62496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7205400" y="5848560"/>
                    <a:ext cx="61596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712476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2" name=""/>
              <p:cNvGrpSpPr/>
              <p:nvPr/>
            </p:nvGrpSpPr>
            <p:grpSpPr>
              <a:xfrm>
                <a:off x="7902720" y="5848560"/>
                <a:ext cx="777240" cy="624960"/>
                <a:chOff x="7902720" y="5848560"/>
                <a:chExt cx="777240" cy="624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7902720" y="5848560"/>
                  <a:ext cx="777240" cy="6249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7902720" y="5848560"/>
                  <a:ext cx="776880" cy="624960"/>
                  <a:chOff x="7902720" y="5848560"/>
                  <a:chExt cx="776880" cy="62496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>
                    <a:off x="7983360" y="5848560"/>
                    <a:ext cx="615960" cy="624960"/>
                  </a:xfrm>
                  <a:prstGeom prst="rect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7902720" y="5848560"/>
                    <a:ext cx="776880" cy="62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07" name=""/>
            <p:cNvSpPr/>
            <p:nvPr/>
          </p:nvSpPr>
          <p:spPr>
            <a:xfrm>
              <a:off x="228600" y="457200"/>
              <a:ext cx="8457840" cy="601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40" y="776916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3352680"/>
            <a:ext cx="8458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57200" y="2971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-258840"/>
            <a:ext cx="9144000" cy="72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09480" y="304920"/>
            <a:ext cx="8077320" cy="6171840"/>
            <a:chOff x="609480" y="304920"/>
            <a:chExt cx="8077320" cy="6171840"/>
          </a:xfrm>
        </p:grpSpPr>
        <p:sp>
          <p:nvSpPr>
            <p:cNvPr id="614" name=""/>
            <p:cNvSpPr/>
            <p:nvPr/>
          </p:nvSpPr>
          <p:spPr>
            <a:xfrm>
              <a:off x="897840" y="965880"/>
              <a:ext cx="2019240" cy="5510880"/>
            </a:xfrm>
            <a:prstGeom prst="rect">
              <a:avLst/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9480" y="304920"/>
              <a:ext cx="8077320" cy="66096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Текущая и прогнозная оценка социальной ситуац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и состояния социальной сфе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474920" y="1186560"/>
              <a:ext cx="7211880" cy="440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Демографическая ситуация и состояние здоровья насел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474920" y="1847880"/>
              <a:ext cx="7211880" cy="440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Ситуация на рынке труда и безработ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74920" y="2509200"/>
              <a:ext cx="7211880" cy="440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Среднедушевые доходы и уровень жизни насел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474920" y="3170520"/>
              <a:ext cx="7211880" cy="440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Жилищные условия и бытовое обслужи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474920" y="3831840"/>
              <a:ext cx="7211880" cy="440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Доступность и качество образовательных услуг, информации, культу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474920" y="4493160"/>
              <a:ext cx="7211880" cy="440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Личная безопасность населения, социопатии и преступно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74920" y="5154480"/>
              <a:ext cx="7211880" cy="440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Актуальные проблемы молодежи: социопатии и преступно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74920" y="5815800"/>
              <a:ext cx="7211880" cy="440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Экологическая ситуация в регион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42200" y="1186560"/>
              <a:ext cx="432720" cy="44064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42200" y="1847880"/>
              <a:ext cx="432720" cy="44064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42200" y="2509200"/>
              <a:ext cx="432720" cy="44064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42200" y="3170520"/>
              <a:ext cx="432720" cy="44064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42200" y="3831840"/>
              <a:ext cx="432720" cy="44064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42200" y="4493160"/>
              <a:ext cx="432720" cy="44064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42200" y="5154480"/>
              <a:ext cx="432720" cy="44064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42200" y="5815800"/>
              <a:ext cx="432720" cy="440640"/>
            </a:xfrm>
            <a:prstGeom prst="rect">
              <a:avLst/>
            </a:prstGeom>
            <a:gradFill rotWithShape="0">
              <a:gsLst>
                <a:gs pos="0">
                  <a:srgbClr val="007575"/>
                </a:gs>
                <a:gs pos="50000">
                  <a:srgbClr val="00ffff"/>
                </a:gs>
                <a:gs pos="100000">
                  <a:srgbClr val="00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0" y="-2588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1143000" y="1295280"/>
            <a:ext cx="6552720" cy="5105160"/>
            <a:chOff x="1143000" y="1295280"/>
            <a:chExt cx="6552720" cy="5105160"/>
          </a:xfrm>
        </p:grpSpPr>
        <p:grpSp>
          <p:nvGrpSpPr>
            <p:cNvPr id="634" name=""/>
            <p:cNvGrpSpPr/>
            <p:nvPr/>
          </p:nvGrpSpPr>
          <p:grpSpPr>
            <a:xfrm>
              <a:off x="1143000" y="1295280"/>
              <a:ext cx="6552720" cy="2440800"/>
              <a:chOff x="1143000" y="1295280"/>
              <a:chExt cx="6552720" cy="24408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1143000" y="1295280"/>
                <a:ext cx="6552720" cy="442800"/>
                <a:chOff x="1143000" y="1295280"/>
                <a:chExt cx="6552720" cy="442800"/>
              </a:xfrm>
            </p:grpSpPr>
            <p:grpSp>
              <p:nvGrpSpPr>
                <p:cNvPr id="636" name=""/>
                <p:cNvGrpSpPr/>
                <p:nvPr/>
              </p:nvGrpSpPr>
              <p:grpSpPr>
                <a:xfrm>
                  <a:off x="1143000" y="1443240"/>
                  <a:ext cx="6552720" cy="294840"/>
                  <a:chOff x="1143000" y="1443240"/>
                  <a:chExt cx="6552720" cy="294840"/>
                </a:xfrm>
              </p:grpSpPr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1441080" y="1639800"/>
                    <a:ext cx="2977920" cy="98280"/>
                    <a:chOff x="1441080" y="1639800"/>
                    <a:chExt cx="2977920" cy="98280"/>
                  </a:xfrm>
                </p:grpSpPr>
                <p:grpSp>
                  <p:nvGrpSpPr>
                    <p:cNvPr id="638" name=""/>
                    <p:cNvGrpSpPr/>
                    <p:nvPr/>
                  </p:nvGrpSpPr>
                  <p:grpSpPr>
                    <a:xfrm>
                      <a:off x="1441080" y="1639800"/>
                      <a:ext cx="595440" cy="98280"/>
                      <a:chOff x="1441080" y="1639800"/>
                      <a:chExt cx="595440" cy="98280"/>
                    </a:xfrm>
                  </p:grpSpPr>
                  <p:sp>
                    <p:nvSpPr>
                      <p:cNvPr id="639" name=""/>
                      <p:cNvSpPr/>
                      <p:nvPr/>
                    </p:nvSpPr>
                    <p:spPr>
                      <a:xfrm>
                        <a:off x="144108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0" name=""/>
                      <p:cNvSpPr/>
                      <p:nvPr/>
                    </p:nvSpPr>
                    <p:spPr>
                      <a:xfrm>
                        <a:off x="173880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1" name=""/>
                    <p:cNvGrpSpPr/>
                    <p:nvPr/>
                  </p:nvGrpSpPr>
                  <p:grpSpPr>
                    <a:xfrm>
                      <a:off x="2036520" y="1639800"/>
                      <a:ext cx="595440" cy="98280"/>
                      <a:chOff x="2036520" y="1639800"/>
                      <a:chExt cx="595440" cy="98280"/>
                    </a:xfrm>
                  </p:grpSpPr>
                  <p:sp>
                    <p:nvSpPr>
                      <p:cNvPr id="642" name=""/>
                      <p:cNvSpPr/>
                      <p:nvPr/>
                    </p:nvSpPr>
                    <p:spPr>
                      <a:xfrm>
                        <a:off x="203652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233424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4" name=""/>
                    <p:cNvGrpSpPr/>
                    <p:nvPr/>
                  </p:nvGrpSpPr>
                  <p:grpSpPr>
                    <a:xfrm>
                      <a:off x="2631960" y="1639800"/>
                      <a:ext cx="595440" cy="98280"/>
                      <a:chOff x="2631960" y="1639800"/>
                      <a:chExt cx="595440" cy="98280"/>
                    </a:xfrm>
                  </p:grpSpPr>
                  <p:sp>
                    <p:nvSpPr>
                      <p:cNvPr id="645" name=""/>
                      <p:cNvSpPr/>
                      <p:nvPr/>
                    </p:nvSpPr>
                    <p:spPr>
                      <a:xfrm>
                        <a:off x="263196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6" name=""/>
                      <p:cNvSpPr/>
                      <p:nvPr/>
                    </p:nvSpPr>
                    <p:spPr>
                      <a:xfrm>
                        <a:off x="292968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7" name=""/>
                    <p:cNvGrpSpPr/>
                    <p:nvPr/>
                  </p:nvGrpSpPr>
                  <p:grpSpPr>
                    <a:xfrm>
                      <a:off x="3227760" y="1639800"/>
                      <a:ext cx="595440" cy="98280"/>
                      <a:chOff x="3227760" y="1639800"/>
                      <a:chExt cx="595440" cy="98280"/>
                    </a:xfrm>
                  </p:grpSpPr>
                  <p:sp>
                    <p:nvSpPr>
                      <p:cNvPr id="648" name=""/>
                      <p:cNvSpPr/>
                      <p:nvPr/>
                    </p:nvSpPr>
                    <p:spPr>
                      <a:xfrm>
                        <a:off x="322776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9" name=""/>
                      <p:cNvSpPr/>
                      <p:nvPr/>
                    </p:nvSpPr>
                    <p:spPr>
                      <a:xfrm>
                        <a:off x="352548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0" name=""/>
                    <p:cNvGrpSpPr/>
                    <p:nvPr/>
                  </p:nvGrpSpPr>
                  <p:grpSpPr>
                    <a:xfrm>
                      <a:off x="3823560" y="1639800"/>
                      <a:ext cx="595440" cy="98280"/>
                      <a:chOff x="3823560" y="1639800"/>
                      <a:chExt cx="595440" cy="98280"/>
                    </a:xfrm>
                  </p:grpSpPr>
                  <p:sp>
                    <p:nvSpPr>
                      <p:cNvPr id="651" name=""/>
                      <p:cNvSpPr/>
                      <p:nvPr/>
                    </p:nvSpPr>
                    <p:spPr>
                      <a:xfrm>
                        <a:off x="382356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2" name=""/>
                      <p:cNvSpPr/>
                      <p:nvPr/>
                    </p:nvSpPr>
                    <p:spPr>
                      <a:xfrm>
                        <a:off x="412128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4419360" y="1639800"/>
                    <a:ext cx="2977920" cy="98280"/>
                    <a:chOff x="4419360" y="1639800"/>
                    <a:chExt cx="2977920" cy="98280"/>
                  </a:xfrm>
                </p:grpSpPr>
                <p:grpSp>
                  <p:nvGrpSpPr>
                    <p:cNvPr id="654" name=""/>
                    <p:cNvGrpSpPr/>
                    <p:nvPr/>
                  </p:nvGrpSpPr>
                  <p:grpSpPr>
                    <a:xfrm>
                      <a:off x="4419360" y="1639800"/>
                      <a:ext cx="595440" cy="98280"/>
                      <a:chOff x="4419360" y="1639800"/>
                      <a:chExt cx="595440" cy="98280"/>
                    </a:xfrm>
                  </p:grpSpPr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441936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471708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7" name=""/>
                    <p:cNvGrpSpPr/>
                    <p:nvPr/>
                  </p:nvGrpSpPr>
                  <p:grpSpPr>
                    <a:xfrm>
                      <a:off x="5014800" y="1639800"/>
                      <a:ext cx="595440" cy="98280"/>
                      <a:chOff x="5014800" y="1639800"/>
                      <a:chExt cx="595440" cy="98280"/>
                    </a:xfrm>
                  </p:grpSpPr>
                  <p:sp>
                    <p:nvSpPr>
                      <p:cNvPr id="658" name=""/>
                      <p:cNvSpPr/>
                      <p:nvPr/>
                    </p:nvSpPr>
                    <p:spPr>
                      <a:xfrm>
                        <a:off x="501480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>
                        <a:off x="531252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0" name=""/>
                    <p:cNvGrpSpPr/>
                    <p:nvPr/>
                  </p:nvGrpSpPr>
                  <p:grpSpPr>
                    <a:xfrm>
                      <a:off x="5610240" y="1639800"/>
                      <a:ext cx="595440" cy="98280"/>
                      <a:chOff x="5610240" y="1639800"/>
                      <a:chExt cx="595440" cy="98280"/>
                    </a:xfrm>
                  </p:grpSpPr>
                  <p:sp>
                    <p:nvSpPr>
                      <p:cNvPr id="661" name=""/>
                      <p:cNvSpPr/>
                      <p:nvPr/>
                    </p:nvSpPr>
                    <p:spPr>
                      <a:xfrm>
                        <a:off x="561024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590796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3" name=""/>
                    <p:cNvGrpSpPr/>
                    <p:nvPr/>
                  </p:nvGrpSpPr>
                  <p:grpSpPr>
                    <a:xfrm>
                      <a:off x="6206040" y="1639800"/>
                      <a:ext cx="595440" cy="98280"/>
                      <a:chOff x="6206040" y="1639800"/>
                      <a:chExt cx="595440" cy="98280"/>
                    </a:xfrm>
                  </p:grpSpPr>
                  <p:sp>
                    <p:nvSpPr>
                      <p:cNvPr id="664" name=""/>
                      <p:cNvSpPr/>
                      <p:nvPr/>
                    </p:nvSpPr>
                    <p:spPr>
                      <a:xfrm>
                        <a:off x="620604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5" name=""/>
                      <p:cNvSpPr/>
                      <p:nvPr/>
                    </p:nvSpPr>
                    <p:spPr>
                      <a:xfrm>
                        <a:off x="650376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6" name=""/>
                    <p:cNvGrpSpPr/>
                    <p:nvPr/>
                  </p:nvGrpSpPr>
                  <p:grpSpPr>
                    <a:xfrm>
                      <a:off x="6801840" y="1639800"/>
                      <a:ext cx="595440" cy="98280"/>
                      <a:chOff x="6801840" y="1639800"/>
                      <a:chExt cx="595440" cy="98280"/>
                    </a:xfrm>
                  </p:grpSpPr>
                  <p:sp>
                    <p:nvSpPr>
                      <p:cNvPr id="667" name=""/>
                      <p:cNvSpPr/>
                      <p:nvPr/>
                    </p:nvSpPr>
                    <p:spPr>
                      <a:xfrm>
                        <a:off x="680184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8" name=""/>
                      <p:cNvSpPr/>
                      <p:nvPr/>
                    </p:nvSpPr>
                    <p:spPr>
                      <a:xfrm>
                        <a:off x="7099560" y="163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69" name=""/>
                  <p:cNvSpPr/>
                  <p:nvPr/>
                </p:nvSpPr>
                <p:spPr>
                  <a:xfrm>
                    <a:off x="5610960" y="1443240"/>
                    <a:ext cx="595440" cy="19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7100280" y="1443240"/>
                    <a:ext cx="595440" cy="19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120920" y="1443240"/>
                    <a:ext cx="596160" cy="19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631960" y="1443240"/>
                    <a:ext cx="595440" cy="19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1143000" y="1443240"/>
                    <a:ext cx="595440" cy="196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V="1">
                    <a:off x="4419360" y="1541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V="1">
                    <a:off x="2930040" y="1541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V="1">
                    <a:off x="1441080" y="1541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V="1">
                    <a:off x="5908320" y="1541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V="1">
                    <a:off x="7397640" y="1541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9" name=""/>
                <p:cNvSpPr/>
                <p:nvPr/>
              </p:nvSpPr>
              <p:spPr>
                <a:xfrm>
                  <a:off x="1410120" y="1295280"/>
                  <a:ext cx="6017760" cy="14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 Воспроизводство насе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1143000" y="1813320"/>
                <a:ext cx="6552720" cy="590400"/>
                <a:chOff x="1143000" y="1813320"/>
                <a:chExt cx="6552720" cy="59040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143000" y="2109240"/>
                  <a:ext cx="6552720" cy="294480"/>
                  <a:chOff x="1143000" y="2109240"/>
                  <a:chExt cx="6552720" cy="294480"/>
                </a:xfrm>
              </p:grpSpPr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1441080" y="2305440"/>
                    <a:ext cx="2977920" cy="98280"/>
                    <a:chOff x="1441080" y="2305440"/>
                    <a:chExt cx="2977920" cy="98280"/>
                  </a:xfrm>
                </p:grpSpPr>
                <p:grpSp>
                  <p:nvGrpSpPr>
                    <p:cNvPr id="683" name=""/>
                    <p:cNvGrpSpPr/>
                    <p:nvPr/>
                  </p:nvGrpSpPr>
                  <p:grpSpPr>
                    <a:xfrm>
                      <a:off x="1441080" y="2305440"/>
                      <a:ext cx="595440" cy="98280"/>
                      <a:chOff x="1441080" y="2305440"/>
                      <a:chExt cx="595440" cy="98280"/>
                    </a:xfrm>
                  </p:grpSpPr>
                  <p:sp>
                    <p:nvSpPr>
                      <p:cNvPr id="684" name=""/>
                      <p:cNvSpPr/>
                      <p:nvPr/>
                    </p:nvSpPr>
                    <p:spPr>
                      <a:xfrm>
                        <a:off x="144108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5" name=""/>
                      <p:cNvSpPr/>
                      <p:nvPr/>
                    </p:nvSpPr>
                    <p:spPr>
                      <a:xfrm>
                        <a:off x="173880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6" name=""/>
                    <p:cNvGrpSpPr/>
                    <p:nvPr/>
                  </p:nvGrpSpPr>
                  <p:grpSpPr>
                    <a:xfrm>
                      <a:off x="2036520" y="2305440"/>
                      <a:ext cx="595440" cy="98280"/>
                      <a:chOff x="2036520" y="2305440"/>
                      <a:chExt cx="595440" cy="98280"/>
                    </a:xfrm>
                  </p:grpSpPr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203652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8" name=""/>
                      <p:cNvSpPr/>
                      <p:nvPr/>
                    </p:nvSpPr>
                    <p:spPr>
                      <a:xfrm>
                        <a:off x="233424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9" name=""/>
                    <p:cNvGrpSpPr/>
                    <p:nvPr/>
                  </p:nvGrpSpPr>
                  <p:grpSpPr>
                    <a:xfrm>
                      <a:off x="2631960" y="2305440"/>
                      <a:ext cx="595440" cy="98280"/>
                      <a:chOff x="2631960" y="2305440"/>
                      <a:chExt cx="595440" cy="98280"/>
                    </a:xfrm>
                  </p:grpSpPr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263196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292968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2" name=""/>
                    <p:cNvGrpSpPr/>
                    <p:nvPr/>
                  </p:nvGrpSpPr>
                  <p:grpSpPr>
                    <a:xfrm>
                      <a:off x="3227760" y="2305440"/>
                      <a:ext cx="595440" cy="98280"/>
                      <a:chOff x="3227760" y="2305440"/>
                      <a:chExt cx="595440" cy="98280"/>
                    </a:xfrm>
                  </p:grpSpPr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322776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>
                        <a:off x="352548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5" name=""/>
                    <p:cNvGrpSpPr/>
                    <p:nvPr/>
                  </p:nvGrpSpPr>
                  <p:grpSpPr>
                    <a:xfrm>
                      <a:off x="3823560" y="2305440"/>
                      <a:ext cx="595440" cy="98280"/>
                      <a:chOff x="3823560" y="2305440"/>
                      <a:chExt cx="595440" cy="98280"/>
                    </a:xfrm>
                  </p:grpSpPr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382356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412128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4419360" y="2305440"/>
                    <a:ext cx="2977920" cy="98280"/>
                    <a:chOff x="4419360" y="2305440"/>
                    <a:chExt cx="2977920" cy="98280"/>
                  </a:xfrm>
                </p:grpSpPr>
                <p:grpSp>
                  <p:nvGrpSpPr>
                    <p:cNvPr id="699" name=""/>
                    <p:cNvGrpSpPr/>
                    <p:nvPr/>
                  </p:nvGrpSpPr>
                  <p:grpSpPr>
                    <a:xfrm>
                      <a:off x="4419360" y="2305440"/>
                      <a:ext cx="595440" cy="98280"/>
                      <a:chOff x="4419360" y="2305440"/>
                      <a:chExt cx="595440" cy="98280"/>
                    </a:xfrm>
                  </p:grpSpPr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441936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471708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2" name=""/>
                    <p:cNvGrpSpPr/>
                    <p:nvPr/>
                  </p:nvGrpSpPr>
                  <p:grpSpPr>
                    <a:xfrm>
                      <a:off x="5014800" y="2305440"/>
                      <a:ext cx="595440" cy="98280"/>
                      <a:chOff x="5014800" y="2305440"/>
                      <a:chExt cx="595440" cy="98280"/>
                    </a:xfrm>
                  </p:grpSpPr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501480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531252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5" name=""/>
                    <p:cNvGrpSpPr/>
                    <p:nvPr/>
                  </p:nvGrpSpPr>
                  <p:grpSpPr>
                    <a:xfrm>
                      <a:off x="5610240" y="2305440"/>
                      <a:ext cx="595440" cy="98280"/>
                      <a:chOff x="5610240" y="2305440"/>
                      <a:chExt cx="595440" cy="98280"/>
                    </a:xfrm>
                  </p:grpSpPr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561024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590796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8" name=""/>
                    <p:cNvGrpSpPr/>
                    <p:nvPr/>
                  </p:nvGrpSpPr>
                  <p:grpSpPr>
                    <a:xfrm>
                      <a:off x="6206040" y="2305440"/>
                      <a:ext cx="595440" cy="98280"/>
                      <a:chOff x="6206040" y="2305440"/>
                      <a:chExt cx="595440" cy="98280"/>
                    </a:xfrm>
                  </p:grpSpPr>
                  <p:sp>
                    <p:nvSpPr>
                      <p:cNvPr id="709" name=""/>
                      <p:cNvSpPr/>
                      <p:nvPr/>
                    </p:nvSpPr>
                    <p:spPr>
                      <a:xfrm>
                        <a:off x="620604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0" name=""/>
                      <p:cNvSpPr/>
                      <p:nvPr/>
                    </p:nvSpPr>
                    <p:spPr>
                      <a:xfrm>
                        <a:off x="650376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1" name=""/>
                    <p:cNvGrpSpPr/>
                    <p:nvPr/>
                  </p:nvGrpSpPr>
                  <p:grpSpPr>
                    <a:xfrm>
                      <a:off x="6801840" y="2305440"/>
                      <a:ext cx="595440" cy="98280"/>
                      <a:chOff x="6801840" y="2305440"/>
                      <a:chExt cx="595440" cy="98280"/>
                    </a:xfrm>
                  </p:grpSpPr>
                  <p:sp>
                    <p:nvSpPr>
                      <p:cNvPr id="712" name=""/>
                      <p:cNvSpPr/>
                      <p:nvPr/>
                    </p:nvSpPr>
                    <p:spPr>
                      <a:xfrm>
                        <a:off x="680184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>
                        <a:off x="7099560" y="230544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14" name=""/>
                  <p:cNvSpPr/>
                  <p:nvPr/>
                </p:nvSpPr>
                <p:spPr>
                  <a:xfrm>
                    <a:off x="5610960" y="210924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7100280" y="210924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120920" y="2109240"/>
                    <a:ext cx="59616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2631960" y="210924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1143000" y="2109240"/>
                    <a:ext cx="595440" cy="196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V="1">
                    <a:off x="4419360" y="2207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V="1">
                    <a:off x="2930040" y="2207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V="1">
                    <a:off x="1441080" y="2207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V="1">
                    <a:off x="5908320" y="2207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V="1">
                    <a:off x="7397640" y="220752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4" name=""/>
                <p:cNvSpPr/>
                <p:nvPr/>
              </p:nvSpPr>
              <p:spPr>
                <a:xfrm>
                  <a:off x="1410120" y="1813320"/>
                  <a:ext cx="6017760" cy="22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 Детская смертно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1143000" y="2479680"/>
                <a:ext cx="6552720" cy="590400"/>
                <a:chOff x="1143000" y="2479680"/>
                <a:chExt cx="6552720" cy="590400"/>
              </a:xfrm>
            </p:grpSpPr>
            <p:grpSp>
              <p:nvGrpSpPr>
                <p:cNvPr id="726" name=""/>
                <p:cNvGrpSpPr/>
                <p:nvPr/>
              </p:nvGrpSpPr>
              <p:grpSpPr>
                <a:xfrm>
                  <a:off x="1143000" y="2775600"/>
                  <a:ext cx="6552720" cy="294480"/>
                  <a:chOff x="1143000" y="2775600"/>
                  <a:chExt cx="6552720" cy="294480"/>
                </a:xfrm>
              </p:grpSpPr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1441080" y="2971800"/>
                    <a:ext cx="2977920" cy="98280"/>
                    <a:chOff x="1441080" y="2971800"/>
                    <a:chExt cx="2977920" cy="98280"/>
                  </a:xfrm>
                </p:grpSpPr>
                <p:grpSp>
                  <p:nvGrpSpPr>
                    <p:cNvPr id="728" name=""/>
                    <p:cNvGrpSpPr/>
                    <p:nvPr/>
                  </p:nvGrpSpPr>
                  <p:grpSpPr>
                    <a:xfrm>
                      <a:off x="1441080" y="2971800"/>
                      <a:ext cx="595440" cy="98280"/>
                      <a:chOff x="1441080" y="2971800"/>
                      <a:chExt cx="595440" cy="98280"/>
                    </a:xfrm>
                  </p:grpSpPr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144108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0" name=""/>
                      <p:cNvSpPr/>
                      <p:nvPr/>
                    </p:nvSpPr>
                    <p:spPr>
                      <a:xfrm>
                        <a:off x="173880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1" name=""/>
                    <p:cNvGrpSpPr/>
                    <p:nvPr/>
                  </p:nvGrpSpPr>
                  <p:grpSpPr>
                    <a:xfrm>
                      <a:off x="2036520" y="2971800"/>
                      <a:ext cx="595440" cy="98280"/>
                      <a:chOff x="2036520" y="2971800"/>
                      <a:chExt cx="595440" cy="98280"/>
                    </a:xfrm>
                  </p:grpSpPr>
                  <p:sp>
                    <p:nvSpPr>
                      <p:cNvPr id="732" name=""/>
                      <p:cNvSpPr/>
                      <p:nvPr/>
                    </p:nvSpPr>
                    <p:spPr>
                      <a:xfrm>
                        <a:off x="203652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3" name=""/>
                      <p:cNvSpPr/>
                      <p:nvPr/>
                    </p:nvSpPr>
                    <p:spPr>
                      <a:xfrm>
                        <a:off x="233424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4" name=""/>
                    <p:cNvGrpSpPr/>
                    <p:nvPr/>
                  </p:nvGrpSpPr>
                  <p:grpSpPr>
                    <a:xfrm>
                      <a:off x="2631960" y="2971800"/>
                      <a:ext cx="595440" cy="98280"/>
                      <a:chOff x="2631960" y="2971800"/>
                      <a:chExt cx="595440" cy="98280"/>
                    </a:xfrm>
                  </p:grpSpPr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263196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292968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7" name=""/>
                    <p:cNvGrpSpPr/>
                    <p:nvPr/>
                  </p:nvGrpSpPr>
                  <p:grpSpPr>
                    <a:xfrm>
                      <a:off x="3227760" y="2971800"/>
                      <a:ext cx="595440" cy="98280"/>
                      <a:chOff x="3227760" y="2971800"/>
                      <a:chExt cx="595440" cy="98280"/>
                    </a:xfrm>
                  </p:grpSpPr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322776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9" name=""/>
                      <p:cNvSpPr/>
                      <p:nvPr/>
                    </p:nvSpPr>
                    <p:spPr>
                      <a:xfrm>
                        <a:off x="352548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0" name=""/>
                    <p:cNvGrpSpPr/>
                    <p:nvPr/>
                  </p:nvGrpSpPr>
                  <p:grpSpPr>
                    <a:xfrm>
                      <a:off x="3823560" y="2971800"/>
                      <a:ext cx="595440" cy="98280"/>
                      <a:chOff x="3823560" y="2971800"/>
                      <a:chExt cx="595440" cy="98280"/>
                    </a:xfrm>
                  </p:grpSpPr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382356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412128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4419360" y="2971800"/>
                    <a:ext cx="2977920" cy="98280"/>
                    <a:chOff x="4419360" y="2971800"/>
                    <a:chExt cx="2977920" cy="98280"/>
                  </a:xfrm>
                </p:grpSpPr>
                <p:grpSp>
                  <p:nvGrpSpPr>
                    <p:cNvPr id="744" name=""/>
                    <p:cNvGrpSpPr/>
                    <p:nvPr/>
                  </p:nvGrpSpPr>
                  <p:grpSpPr>
                    <a:xfrm>
                      <a:off x="4419360" y="2971800"/>
                      <a:ext cx="595440" cy="98280"/>
                      <a:chOff x="4419360" y="2971800"/>
                      <a:chExt cx="595440" cy="98280"/>
                    </a:xfrm>
                  </p:grpSpPr>
                  <p:sp>
                    <p:nvSpPr>
                      <p:cNvPr id="745" name=""/>
                      <p:cNvSpPr/>
                      <p:nvPr/>
                    </p:nvSpPr>
                    <p:spPr>
                      <a:xfrm>
                        <a:off x="441936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6" name=""/>
                      <p:cNvSpPr/>
                      <p:nvPr/>
                    </p:nvSpPr>
                    <p:spPr>
                      <a:xfrm>
                        <a:off x="471708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5014800" y="2971800"/>
                      <a:ext cx="595440" cy="98280"/>
                      <a:chOff x="5014800" y="2971800"/>
                      <a:chExt cx="595440" cy="98280"/>
                    </a:xfrm>
                  </p:grpSpPr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501480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531252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0" name=""/>
                    <p:cNvGrpSpPr/>
                    <p:nvPr/>
                  </p:nvGrpSpPr>
                  <p:grpSpPr>
                    <a:xfrm>
                      <a:off x="5610240" y="2971800"/>
                      <a:ext cx="595440" cy="98280"/>
                      <a:chOff x="5610240" y="2971800"/>
                      <a:chExt cx="595440" cy="98280"/>
                    </a:xfrm>
                  </p:grpSpPr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561024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590796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3" name=""/>
                    <p:cNvGrpSpPr/>
                    <p:nvPr/>
                  </p:nvGrpSpPr>
                  <p:grpSpPr>
                    <a:xfrm>
                      <a:off x="6206040" y="2971800"/>
                      <a:ext cx="595440" cy="98280"/>
                      <a:chOff x="6206040" y="2971800"/>
                      <a:chExt cx="595440" cy="98280"/>
                    </a:xfrm>
                  </p:grpSpPr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620604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650376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6" name=""/>
                    <p:cNvGrpSpPr/>
                    <p:nvPr/>
                  </p:nvGrpSpPr>
                  <p:grpSpPr>
                    <a:xfrm>
                      <a:off x="6801840" y="2971800"/>
                      <a:ext cx="595440" cy="98280"/>
                      <a:chOff x="6801840" y="2971800"/>
                      <a:chExt cx="595440" cy="98280"/>
                    </a:xfrm>
                  </p:grpSpPr>
                  <p:sp>
                    <p:nvSpPr>
                      <p:cNvPr id="757" name=""/>
                      <p:cNvSpPr/>
                      <p:nvPr/>
                    </p:nvSpPr>
                    <p:spPr>
                      <a:xfrm>
                        <a:off x="680184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8" name=""/>
                      <p:cNvSpPr/>
                      <p:nvPr/>
                    </p:nvSpPr>
                    <p:spPr>
                      <a:xfrm>
                        <a:off x="7099560" y="2971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59" name=""/>
                  <p:cNvSpPr/>
                  <p:nvPr/>
                </p:nvSpPr>
                <p:spPr>
                  <a:xfrm>
                    <a:off x="5610960" y="277560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7100280" y="277560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120920" y="2775600"/>
                    <a:ext cx="59616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2631960" y="277560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143000" y="2775600"/>
                    <a:ext cx="595440" cy="196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V="1">
                    <a:off x="4419360" y="2873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>
                    <a:off x="2930040" y="2873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>
                    <a:off x="1441080" y="2873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V="1">
                    <a:off x="5908320" y="2873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V="1">
                    <a:off x="7397640" y="2873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9" name=""/>
                <p:cNvSpPr/>
                <p:nvPr/>
              </p:nvSpPr>
              <p:spPr>
                <a:xfrm>
                  <a:off x="1410120" y="2479680"/>
                  <a:ext cx="6017760" cy="22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. Ресурсы амбулаторно-поликлинической и больничной се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1143000" y="3145680"/>
                <a:ext cx="6552720" cy="590400"/>
                <a:chOff x="1143000" y="3145680"/>
                <a:chExt cx="6552720" cy="590400"/>
              </a:xfrm>
            </p:grpSpPr>
            <p:grpSp>
              <p:nvGrpSpPr>
                <p:cNvPr id="771" name=""/>
                <p:cNvGrpSpPr/>
                <p:nvPr/>
              </p:nvGrpSpPr>
              <p:grpSpPr>
                <a:xfrm>
                  <a:off x="1143000" y="3441600"/>
                  <a:ext cx="6552720" cy="294480"/>
                  <a:chOff x="1143000" y="3441600"/>
                  <a:chExt cx="6552720" cy="294480"/>
                </a:xfrm>
              </p:grpSpPr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1441080" y="3637800"/>
                    <a:ext cx="2977920" cy="98280"/>
                    <a:chOff x="1441080" y="3637800"/>
                    <a:chExt cx="2977920" cy="98280"/>
                  </a:xfrm>
                </p:grpSpPr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1441080" y="3637800"/>
                      <a:ext cx="595440" cy="98280"/>
                      <a:chOff x="1441080" y="3637800"/>
                      <a:chExt cx="595440" cy="98280"/>
                    </a:xfrm>
                  </p:grpSpPr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144108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5" name=""/>
                      <p:cNvSpPr/>
                      <p:nvPr/>
                    </p:nvSpPr>
                    <p:spPr>
                      <a:xfrm>
                        <a:off x="173880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6" name=""/>
                    <p:cNvGrpSpPr/>
                    <p:nvPr/>
                  </p:nvGrpSpPr>
                  <p:grpSpPr>
                    <a:xfrm>
                      <a:off x="2036520" y="3637800"/>
                      <a:ext cx="595440" cy="98280"/>
                      <a:chOff x="2036520" y="3637800"/>
                      <a:chExt cx="595440" cy="98280"/>
                    </a:xfrm>
                  </p:grpSpPr>
                  <p:sp>
                    <p:nvSpPr>
                      <p:cNvPr id="777" name=""/>
                      <p:cNvSpPr/>
                      <p:nvPr/>
                    </p:nvSpPr>
                    <p:spPr>
                      <a:xfrm>
                        <a:off x="203652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233424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9" name=""/>
                    <p:cNvGrpSpPr/>
                    <p:nvPr/>
                  </p:nvGrpSpPr>
                  <p:grpSpPr>
                    <a:xfrm>
                      <a:off x="2631960" y="3637800"/>
                      <a:ext cx="595440" cy="98280"/>
                      <a:chOff x="2631960" y="3637800"/>
                      <a:chExt cx="595440" cy="98280"/>
                    </a:xfrm>
                  </p:grpSpPr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263196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292968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2" name=""/>
                    <p:cNvGrpSpPr/>
                    <p:nvPr/>
                  </p:nvGrpSpPr>
                  <p:grpSpPr>
                    <a:xfrm>
                      <a:off x="3227760" y="3637800"/>
                      <a:ext cx="595440" cy="98280"/>
                      <a:chOff x="3227760" y="3637800"/>
                      <a:chExt cx="595440" cy="98280"/>
                    </a:xfrm>
                  </p:grpSpPr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322776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4" name=""/>
                      <p:cNvSpPr/>
                      <p:nvPr/>
                    </p:nvSpPr>
                    <p:spPr>
                      <a:xfrm>
                        <a:off x="352548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5" name=""/>
                    <p:cNvGrpSpPr/>
                    <p:nvPr/>
                  </p:nvGrpSpPr>
                  <p:grpSpPr>
                    <a:xfrm>
                      <a:off x="3823560" y="3637800"/>
                      <a:ext cx="595440" cy="98280"/>
                      <a:chOff x="3823560" y="3637800"/>
                      <a:chExt cx="595440" cy="98280"/>
                    </a:xfrm>
                  </p:grpSpPr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382356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>
                        <a:off x="412128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4419360" y="3637800"/>
                    <a:ext cx="2977920" cy="98280"/>
                    <a:chOff x="4419360" y="3637800"/>
                    <a:chExt cx="2977920" cy="98280"/>
                  </a:xfrm>
                </p:grpSpPr>
                <p:grpSp>
                  <p:nvGrpSpPr>
                    <p:cNvPr id="789" name=""/>
                    <p:cNvGrpSpPr/>
                    <p:nvPr/>
                  </p:nvGrpSpPr>
                  <p:grpSpPr>
                    <a:xfrm>
                      <a:off x="4419360" y="3637800"/>
                      <a:ext cx="595440" cy="98280"/>
                      <a:chOff x="4419360" y="3637800"/>
                      <a:chExt cx="595440" cy="98280"/>
                    </a:xfrm>
                  </p:grpSpPr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441936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1" name=""/>
                      <p:cNvSpPr/>
                      <p:nvPr/>
                    </p:nvSpPr>
                    <p:spPr>
                      <a:xfrm>
                        <a:off x="471708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2" name=""/>
                    <p:cNvGrpSpPr/>
                    <p:nvPr/>
                  </p:nvGrpSpPr>
                  <p:grpSpPr>
                    <a:xfrm>
                      <a:off x="5014800" y="3637800"/>
                      <a:ext cx="595440" cy="98280"/>
                      <a:chOff x="5014800" y="3637800"/>
                      <a:chExt cx="595440" cy="98280"/>
                    </a:xfrm>
                  </p:grpSpPr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501480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531252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5" name=""/>
                    <p:cNvGrpSpPr/>
                    <p:nvPr/>
                  </p:nvGrpSpPr>
                  <p:grpSpPr>
                    <a:xfrm>
                      <a:off x="5610240" y="3637800"/>
                      <a:ext cx="595440" cy="98280"/>
                      <a:chOff x="5610240" y="3637800"/>
                      <a:chExt cx="595440" cy="98280"/>
                    </a:xfrm>
                  </p:grpSpPr>
                  <p:sp>
                    <p:nvSpPr>
                      <p:cNvPr id="796" name=""/>
                      <p:cNvSpPr/>
                      <p:nvPr/>
                    </p:nvSpPr>
                    <p:spPr>
                      <a:xfrm>
                        <a:off x="561024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590796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8" name=""/>
                    <p:cNvGrpSpPr/>
                    <p:nvPr/>
                  </p:nvGrpSpPr>
                  <p:grpSpPr>
                    <a:xfrm>
                      <a:off x="6206040" y="3637800"/>
                      <a:ext cx="595440" cy="98280"/>
                      <a:chOff x="6206040" y="3637800"/>
                      <a:chExt cx="595440" cy="98280"/>
                    </a:xfrm>
                  </p:grpSpPr>
                  <p:sp>
                    <p:nvSpPr>
                      <p:cNvPr id="799" name=""/>
                      <p:cNvSpPr/>
                      <p:nvPr/>
                    </p:nvSpPr>
                    <p:spPr>
                      <a:xfrm>
                        <a:off x="620604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650376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01" name=""/>
                    <p:cNvGrpSpPr/>
                    <p:nvPr/>
                  </p:nvGrpSpPr>
                  <p:grpSpPr>
                    <a:xfrm>
                      <a:off x="6801840" y="3637800"/>
                      <a:ext cx="595440" cy="98280"/>
                      <a:chOff x="6801840" y="3637800"/>
                      <a:chExt cx="595440" cy="98280"/>
                    </a:xfrm>
                  </p:grpSpPr>
                  <p:sp>
                    <p:nvSpPr>
                      <p:cNvPr id="802" name=""/>
                      <p:cNvSpPr/>
                      <p:nvPr/>
                    </p:nvSpPr>
                    <p:spPr>
                      <a:xfrm>
                        <a:off x="680184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3" name=""/>
                      <p:cNvSpPr/>
                      <p:nvPr/>
                    </p:nvSpPr>
                    <p:spPr>
                      <a:xfrm>
                        <a:off x="7099560" y="3637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04" name=""/>
                  <p:cNvSpPr/>
                  <p:nvPr/>
                </p:nvSpPr>
                <p:spPr>
                  <a:xfrm>
                    <a:off x="5610960" y="344160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7100280" y="344160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4120920" y="3441600"/>
                    <a:ext cx="59616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631960" y="344160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1143000" y="3441600"/>
                    <a:ext cx="595440" cy="196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V="1">
                    <a:off x="4419360" y="3539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V="1">
                    <a:off x="2930040" y="3539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V="1">
                    <a:off x="1441080" y="3539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V="1">
                    <a:off x="5908320" y="3539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V="1">
                    <a:off x="7397640" y="3539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4" name=""/>
                <p:cNvSpPr/>
                <p:nvPr/>
              </p:nvSpPr>
              <p:spPr>
                <a:xfrm>
                  <a:off x="1410120" y="3145680"/>
                  <a:ext cx="6017760" cy="22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 Смертность взрослого насе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5" name=""/>
            <p:cNvGrpSpPr/>
            <p:nvPr/>
          </p:nvGrpSpPr>
          <p:grpSpPr>
            <a:xfrm>
              <a:off x="1143000" y="3959640"/>
              <a:ext cx="6552720" cy="2440800"/>
              <a:chOff x="1143000" y="3959640"/>
              <a:chExt cx="6552720" cy="244080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1143000" y="3959640"/>
                <a:ext cx="6552720" cy="442800"/>
                <a:chOff x="1143000" y="3959640"/>
                <a:chExt cx="6552720" cy="44280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1143000" y="4107600"/>
                  <a:ext cx="6552720" cy="294840"/>
                  <a:chOff x="1143000" y="4107600"/>
                  <a:chExt cx="6552720" cy="29484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1441080" y="4304160"/>
                    <a:ext cx="2977920" cy="98280"/>
                    <a:chOff x="1441080" y="4304160"/>
                    <a:chExt cx="2977920" cy="98280"/>
                  </a:xfrm>
                </p:grpSpPr>
                <p:grpSp>
                  <p:nvGrpSpPr>
                    <p:cNvPr id="819" name=""/>
                    <p:cNvGrpSpPr/>
                    <p:nvPr/>
                  </p:nvGrpSpPr>
                  <p:grpSpPr>
                    <a:xfrm>
                      <a:off x="1441080" y="4304160"/>
                      <a:ext cx="595440" cy="98280"/>
                      <a:chOff x="1441080" y="4304160"/>
                      <a:chExt cx="595440" cy="98280"/>
                    </a:xfrm>
                  </p:grpSpPr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144108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173880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2" name=""/>
                    <p:cNvGrpSpPr/>
                    <p:nvPr/>
                  </p:nvGrpSpPr>
                  <p:grpSpPr>
                    <a:xfrm>
                      <a:off x="2036520" y="4304160"/>
                      <a:ext cx="595440" cy="98280"/>
                      <a:chOff x="2036520" y="4304160"/>
                      <a:chExt cx="595440" cy="98280"/>
                    </a:xfrm>
                  </p:grpSpPr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203652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233424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5" name=""/>
                    <p:cNvGrpSpPr/>
                    <p:nvPr/>
                  </p:nvGrpSpPr>
                  <p:grpSpPr>
                    <a:xfrm>
                      <a:off x="2631960" y="4304160"/>
                      <a:ext cx="595440" cy="98280"/>
                      <a:chOff x="2631960" y="4304160"/>
                      <a:chExt cx="595440" cy="98280"/>
                    </a:xfrm>
                  </p:grpSpPr>
                  <p:sp>
                    <p:nvSpPr>
                      <p:cNvPr id="826" name=""/>
                      <p:cNvSpPr/>
                      <p:nvPr/>
                    </p:nvSpPr>
                    <p:spPr>
                      <a:xfrm>
                        <a:off x="263196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292968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8" name=""/>
                    <p:cNvGrpSpPr/>
                    <p:nvPr/>
                  </p:nvGrpSpPr>
                  <p:grpSpPr>
                    <a:xfrm>
                      <a:off x="3227760" y="4304160"/>
                      <a:ext cx="595440" cy="98280"/>
                      <a:chOff x="3227760" y="4304160"/>
                      <a:chExt cx="595440" cy="98280"/>
                    </a:xfrm>
                  </p:grpSpPr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322776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352548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1" name=""/>
                    <p:cNvGrpSpPr/>
                    <p:nvPr/>
                  </p:nvGrpSpPr>
                  <p:grpSpPr>
                    <a:xfrm>
                      <a:off x="3823560" y="4304160"/>
                      <a:ext cx="595440" cy="98280"/>
                      <a:chOff x="3823560" y="4304160"/>
                      <a:chExt cx="595440" cy="98280"/>
                    </a:xfrm>
                  </p:grpSpPr>
                  <p:sp>
                    <p:nvSpPr>
                      <p:cNvPr id="832" name=""/>
                      <p:cNvSpPr/>
                      <p:nvPr/>
                    </p:nvSpPr>
                    <p:spPr>
                      <a:xfrm>
                        <a:off x="382356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3" name=""/>
                      <p:cNvSpPr/>
                      <p:nvPr/>
                    </p:nvSpPr>
                    <p:spPr>
                      <a:xfrm>
                        <a:off x="412128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4419360" y="4304160"/>
                    <a:ext cx="2977920" cy="98280"/>
                    <a:chOff x="4419360" y="4304160"/>
                    <a:chExt cx="2977920" cy="98280"/>
                  </a:xfrm>
                </p:grpSpPr>
                <p:grpSp>
                  <p:nvGrpSpPr>
                    <p:cNvPr id="835" name=""/>
                    <p:cNvGrpSpPr/>
                    <p:nvPr/>
                  </p:nvGrpSpPr>
                  <p:grpSpPr>
                    <a:xfrm>
                      <a:off x="4419360" y="4304160"/>
                      <a:ext cx="595440" cy="98280"/>
                      <a:chOff x="4419360" y="4304160"/>
                      <a:chExt cx="595440" cy="98280"/>
                    </a:xfrm>
                  </p:grpSpPr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441936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471708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8" name=""/>
                    <p:cNvGrpSpPr/>
                    <p:nvPr/>
                  </p:nvGrpSpPr>
                  <p:grpSpPr>
                    <a:xfrm>
                      <a:off x="5014800" y="4304160"/>
                      <a:ext cx="595440" cy="98280"/>
                      <a:chOff x="5014800" y="4304160"/>
                      <a:chExt cx="595440" cy="98280"/>
                    </a:xfrm>
                  </p:grpSpPr>
                  <p:sp>
                    <p:nvSpPr>
                      <p:cNvPr id="839" name=""/>
                      <p:cNvSpPr/>
                      <p:nvPr/>
                    </p:nvSpPr>
                    <p:spPr>
                      <a:xfrm>
                        <a:off x="501480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0" name=""/>
                      <p:cNvSpPr/>
                      <p:nvPr/>
                    </p:nvSpPr>
                    <p:spPr>
                      <a:xfrm>
                        <a:off x="531252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1" name=""/>
                    <p:cNvGrpSpPr/>
                    <p:nvPr/>
                  </p:nvGrpSpPr>
                  <p:grpSpPr>
                    <a:xfrm>
                      <a:off x="5610240" y="4304160"/>
                      <a:ext cx="595440" cy="98280"/>
                      <a:chOff x="5610240" y="4304160"/>
                      <a:chExt cx="595440" cy="98280"/>
                    </a:xfrm>
                  </p:grpSpPr>
                  <p:sp>
                    <p:nvSpPr>
                      <p:cNvPr id="842" name=""/>
                      <p:cNvSpPr/>
                      <p:nvPr/>
                    </p:nvSpPr>
                    <p:spPr>
                      <a:xfrm>
                        <a:off x="561024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3" name=""/>
                      <p:cNvSpPr/>
                      <p:nvPr/>
                    </p:nvSpPr>
                    <p:spPr>
                      <a:xfrm>
                        <a:off x="590796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4" name=""/>
                    <p:cNvGrpSpPr/>
                    <p:nvPr/>
                  </p:nvGrpSpPr>
                  <p:grpSpPr>
                    <a:xfrm>
                      <a:off x="6206040" y="4304160"/>
                      <a:ext cx="595440" cy="98280"/>
                      <a:chOff x="6206040" y="4304160"/>
                      <a:chExt cx="595440" cy="98280"/>
                    </a:xfrm>
                  </p:grpSpPr>
                  <p:sp>
                    <p:nvSpPr>
                      <p:cNvPr id="845" name=""/>
                      <p:cNvSpPr/>
                      <p:nvPr/>
                    </p:nvSpPr>
                    <p:spPr>
                      <a:xfrm>
                        <a:off x="620604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6" name=""/>
                      <p:cNvSpPr/>
                      <p:nvPr/>
                    </p:nvSpPr>
                    <p:spPr>
                      <a:xfrm>
                        <a:off x="650376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7" name=""/>
                    <p:cNvGrpSpPr/>
                    <p:nvPr/>
                  </p:nvGrpSpPr>
                  <p:grpSpPr>
                    <a:xfrm>
                      <a:off x="6801840" y="4304160"/>
                      <a:ext cx="595440" cy="98280"/>
                      <a:chOff x="6801840" y="4304160"/>
                      <a:chExt cx="595440" cy="98280"/>
                    </a:xfrm>
                  </p:grpSpPr>
                  <p:sp>
                    <p:nvSpPr>
                      <p:cNvPr id="848" name=""/>
                      <p:cNvSpPr/>
                      <p:nvPr/>
                    </p:nvSpPr>
                    <p:spPr>
                      <a:xfrm>
                        <a:off x="680184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"/>
                      <p:cNvSpPr/>
                      <p:nvPr/>
                    </p:nvSpPr>
                    <p:spPr>
                      <a:xfrm>
                        <a:off x="7099560" y="4304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0" name=""/>
                  <p:cNvSpPr/>
                  <p:nvPr/>
                </p:nvSpPr>
                <p:spPr>
                  <a:xfrm>
                    <a:off x="5610960" y="4107600"/>
                    <a:ext cx="595440" cy="19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7100280" y="4107600"/>
                    <a:ext cx="595440" cy="19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120920" y="4107600"/>
                    <a:ext cx="596160" cy="19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2631960" y="4107600"/>
                    <a:ext cx="595440" cy="196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1143000" y="4107600"/>
                    <a:ext cx="595440" cy="196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V="1">
                    <a:off x="4419360" y="4205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V="1">
                    <a:off x="2930040" y="4205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V="1">
                    <a:off x="1441080" y="4205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V="1">
                    <a:off x="5908320" y="4205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V="1">
                    <a:off x="7397640" y="4205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" name=""/>
                <p:cNvSpPr/>
                <p:nvPr/>
              </p:nvSpPr>
              <p:spPr>
                <a:xfrm>
                  <a:off x="1410120" y="3959640"/>
                  <a:ext cx="6017760" cy="14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. Заболеваемость насе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1143000" y="4477680"/>
                <a:ext cx="6552720" cy="590400"/>
                <a:chOff x="1143000" y="4477680"/>
                <a:chExt cx="6552720" cy="590400"/>
              </a:xfrm>
            </p:grpSpPr>
            <p:grpSp>
              <p:nvGrpSpPr>
                <p:cNvPr id="862" name=""/>
                <p:cNvGrpSpPr/>
                <p:nvPr/>
              </p:nvGrpSpPr>
              <p:grpSpPr>
                <a:xfrm>
                  <a:off x="1143000" y="4773600"/>
                  <a:ext cx="6552720" cy="294480"/>
                  <a:chOff x="1143000" y="4773600"/>
                  <a:chExt cx="6552720" cy="294480"/>
                </a:xfrm>
              </p:grpSpPr>
              <p:grpSp>
                <p:nvGrpSpPr>
                  <p:cNvPr id="863" name=""/>
                  <p:cNvGrpSpPr/>
                  <p:nvPr/>
                </p:nvGrpSpPr>
                <p:grpSpPr>
                  <a:xfrm>
                    <a:off x="1441080" y="4969800"/>
                    <a:ext cx="2977920" cy="98280"/>
                    <a:chOff x="1441080" y="4969800"/>
                    <a:chExt cx="2977920" cy="98280"/>
                  </a:xfrm>
                </p:grpSpPr>
                <p:grpSp>
                  <p:nvGrpSpPr>
                    <p:cNvPr id="864" name=""/>
                    <p:cNvGrpSpPr/>
                    <p:nvPr/>
                  </p:nvGrpSpPr>
                  <p:grpSpPr>
                    <a:xfrm>
                      <a:off x="1441080" y="4969800"/>
                      <a:ext cx="595440" cy="98280"/>
                      <a:chOff x="1441080" y="4969800"/>
                      <a:chExt cx="595440" cy="98280"/>
                    </a:xfrm>
                  </p:grpSpPr>
                  <p:sp>
                    <p:nvSpPr>
                      <p:cNvPr id="865" name=""/>
                      <p:cNvSpPr/>
                      <p:nvPr/>
                    </p:nvSpPr>
                    <p:spPr>
                      <a:xfrm>
                        <a:off x="144108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173880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7" name=""/>
                    <p:cNvGrpSpPr/>
                    <p:nvPr/>
                  </p:nvGrpSpPr>
                  <p:grpSpPr>
                    <a:xfrm>
                      <a:off x="2036520" y="4969800"/>
                      <a:ext cx="595440" cy="98280"/>
                      <a:chOff x="2036520" y="4969800"/>
                      <a:chExt cx="595440" cy="98280"/>
                    </a:xfrm>
                  </p:grpSpPr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203652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" name=""/>
                      <p:cNvSpPr/>
                      <p:nvPr/>
                    </p:nvSpPr>
                    <p:spPr>
                      <a:xfrm>
                        <a:off x="233424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0" name=""/>
                    <p:cNvGrpSpPr/>
                    <p:nvPr/>
                  </p:nvGrpSpPr>
                  <p:grpSpPr>
                    <a:xfrm>
                      <a:off x="2631960" y="4969800"/>
                      <a:ext cx="595440" cy="98280"/>
                      <a:chOff x="2631960" y="4969800"/>
                      <a:chExt cx="595440" cy="98280"/>
                    </a:xfrm>
                  </p:grpSpPr>
                  <p:sp>
                    <p:nvSpPr>
                      <p:cNvPr id="871" name=""/>
                      <p:cNvSpPr/>
                      <p:nvPr/>
                    </p:nvSpPr>
                    <p:spPr>
                      <a:xfrm>
                        <a:off x="263196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2" name=""/>
                      <p:cNvSpPr/>
                      <p:nvPr/>
                    </p:nvSpPr>
                    <p:spPr>
                      <a:xfrm>
                        <a:off x="292968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3" name=""/>
                    <p:cNvGrpSpPr/>
                    <p:nvPr/>
                  </p:nvGrpSpPr>
                  <p:grpSpPr>
                    <a:xfrm>
                      <a:off x="3227760" y="4969800"/>
                      <a:ext cx="595440" cy="98280"/>
                      <a:chOff x="3227760" y="4969800"/>
                      <a:chExt cx="595440" cy="98280"/>
                    </a:xfrm>
                  </p:grpSpPr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322776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352548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6" name=""/>
                    <p:cNvGrpSpPr/>
                    <p:nvPr/>
                  </p:nvGrpSpPr>
                  <p:grpSpPr>
                    <a:xfrm>
                      <a:off x="3823560" y="4969800"/>
                      <a:ext cx="595440" cy="98280"/>
                      <a:chOff x="3823560" y="4969800"/>
                      <a:chExt cx="595440" cy="98280"/>
                    </a:xfrm>
                  </p:grpSpPr>
                  <p:sp>
                    <p:nvSpPr>
                      <p:cNvPr id="877" name=""/>
                      <p:cNvSpPr/>
                      <p:nvPr/>
                    </p:nvSpPr>
                    <p:spPr>
                      <a:xfrm>
                        <a:off x="382356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8" name=""/>
                      <p:cNvSpPr/>
                      <p:nvPr/>
                    </p:nvSpPr>
                    <p:spPr>
                      <a:xfrm>
                        <a:off x="412128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4419360" y="4969800"/>
                    <a:ext cx="2977920" cy="98280"/>
                    <a:chOff x="4419360" y="4969800"/>
                    <a:chExt cx="2977920" cy="98280"/>
                  </a:xfrm>
                </p:grpSpPr>
                <p:grpSp>
                  <p:nvGrpSpPr>
                    <p:cNvPr id="880" name=""/>
                    <p:cNvGrpSpPr/>
                    <p:nvPr/>
                  </p:nvGrpSpPr>
                  <p:grpSpPr>
                    <a:xfrm>
                      <a:off x="4419360" y="4969800"/>
                      <a:ext cx="595440" cy="98280"/>
                      <a:chOff x="4419360" y="4969800"/>
                      <a:chExt cx="595440" cy="98280"/>
                    </a:xfrm>
                  </p:grpSpPr>
                  <p:sp>
                    <p:nvSpPr>
                      <p:cNvPr id="881" name=""/>
                      <p:cNvSpPr/>
                      <p:nvPr/>
                    </p:nvSpPr>
                    <p:spPr>
                      <a:xfrm>
                        <a:off x="441936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2" name=""/>
                      <p:cNvSpPr/>
                      <p:nvPr/>
                    </p:nvSpPr>
                    <p:spPr>
                      <a:xfrm>
                        <a:off x="471708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83" name=""/>
                    <p:cNvGrpSpPr/>
                    <p:nvPr/>
                  </p:nvGrpSpPr>
                  <p:grpSpPr>
                    <a:xfrm>
                      <a:off x="5014800" y="4969800"/>
                      <a:ext cx="595440" cy="98280"/>
                      <a:chOff x="5014800" y="4969800"/>
                      <a:chExt cx="595440" cy="98280"/>
                    </a:xfrm>
                  </p:grpSpPr>
                  <p:sp>
                    <p:nvSpPr>
                      <p:cNvPr id="884" name=""/>
                      <p:cNvSpPr/>
                      <p:nvPr/>
                    </p:nvSpPr>
                    <p:spPr>
                      <a:xfrm>
                        <a:off x="501480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5" name=""/>
                      <p:cNvSpPr/>
                      <p:nvPr/>
                    </p:nvSpPr>
                    <p:spPr>
                      <a:xfrm>
                        <a:off x="531252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86" name=""/>
                    <p:cNvGrpSpPr/>
                    <p:nvPr/>
                  </p:nvGrpSpPr>
                  <p:grpSpPr>
                    <a:xfrm>
                      <a:off x="5610240" y="4969800"/>
                      <a:ext cx="595440" cy="98280"/>
                      <a:chOff x="5610240" y="4969800"/>
                      <a:chExt cx="595440" cy="98280"/>
                    </a:xfrm>
                  </p:grpSpPr>
                  <p:sp>
                    <p:nvSpPr>
                      <p:cNvPr id="887" name=""/>
                      <p:cNvSpPr/>
                      <p:nvPr/>
                    </p:nvSpPr>
                    <p:spPr>
                      <a:xfrm>
                        <a:off x="561024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88" name=""/>
                      <p:cNvSpPr/>
                      <p:nvPr/>
                    </p:nvSpPr>
                    <p:spPr>
                      <a:xfrm>
                        <a:off x="590796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89" name=""/>
                    <p:cNvGrpSpPr/>
                    <p:nvPr/>
                  </p:nvGrpSpPr>
                  <p:grpSpPr>
                    <a:xfrm>
                      <a:off x="6206040" y="4969800"/>
                      <a:ext cx="595440" cy="98280"/>
                      <a:chOff x="6206040" y="4969800"/>
                      <a:chExt cx="595440" cy="98280"/>
                    </a:xfrm>
                  </p:grpSpPr>
                  <p:sp>
                    <p:nvSpPr>
                      <p:cNvPr id="890" name=""/>
                      <p:cNvSpPr/>
                      <p:nvPr/>
                    </p:nvSpPr>
                    <p:spPr>
                      <a:xfrm>
                        <a:off x="620604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1" name=""/>
                      <p:cNvSpPr/>
                      <p:nvPr/>
                    </p:nvSpPr>
                    <p:spPr>
                      <a:xfrm>
                        <a:off x="650376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92" name=""/>
                    <p:cNvGrpSpPr/>
                    <p:nvPr/>
                  </p:nvGrpSpPr>
                  <p:grpSpPr>
                    <a:xfrm>
                      <a:off x="6801840" y="4969800"/>
                      <a:ext cx="595440" cy="98280"/>
                      <a:chOff x="6801840" y="4969800"/>
                      <a:chExt cx="595440" cy="98280"/>
                    </a:xfrm>
                  </p:grpSpPr>
                  <p:sp>
                    <p:nvSpPr>
                      <p:cNvPr id="893" name=""/>
                      <p:cNvSpPr/>
                      <p:nvPr/>
                    </p:nvSpPr>
                    <p:spPr>
                      <a:xfrm>
                        <a:off x="680184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94" name=""/>
                      <p:cNvSpPr/>
                      <p:nvPr/>
                    </p:nvSpPr>
                    <p:spPr>
                      <a:xfrm>
                        <a:off x="7099560" y="496980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95" name=""/>
                  <p:cNvSpPr/>
                  <p:nvPr/>
                </p:nvSpPr>
                <p:spPr>
                  <a:xfrm>
                    <a:off x="5610960" y="477360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100280" y="477360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120920" y="4773600"/>
                    <a:ext cx="59616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2631960" y="477360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1143000" y="4773600"/>
                    <a:ext cx="595440" cy="196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V="1">
                    <a:off x="4419360" y="4871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V="1">
                    <a:off x="2930040" y="4871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V="1">
                    <a:off x="1441080" y="4871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V="1">
                    <a:off x="5908320" y="4871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V="1">
                    <a:off x="7397640" y="487188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" name=""/>
                <p:cNvSpPr/>
                <p:nvPr/>
              </p:nvSpPr>
              <p:spPr>
                <a:xfrm>
                  <a:off x="1410120" y="4477680"/>
                  <a:ext cx="6017760" cy="22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 Социопатия (алкоголизм, наркомания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1143000" y="5144040"/>
                <a:ext cx="6552720" cy="590400"/>
                <a:chOff x="1143000" y="5144040"/>
                <a:chExt cx="6552720" cy="590400"/>
              </a:xfrm>
            </p:grpSpPr>
            <p:grpSp>
              <p:nvGrpSpPr>
                <p:cNvPr id="907" name=""/>
                <p:cNvGrpSpPr/>
                <p:nvPr/>
              </p:nvGrpSpPr>
              <p:grpSpPr>
                <a:xfrm>
                  <a:off x="1143000" y="5439960"/>
                  <a:ext cx="6552720" cy="294480"/>
                  <a:chOff x="1143000" y="5439960"/>
                  <a:chExt cx="6552720" cy="294480"/>
                </a:xfrm>
              </p:grpSpPr>
              <p:grpSp>
                <p:nvGrpSpPr>
                  <p:cNvPr id="908" name=""/>
                  <p:cNvGrpSpPr/>
                  <p:nvPr/>
                </p:nvGrpSpPr>
                <p:grpSpPr>
                  <a:xfrm>
                    <a:off x="1441080" y="5636160"/>
                    <a:ext cx="2977920" cy="98280"/>
                    <a:chOff x="1441080" y="5636160"/>
                    <a:chExt cx="2977920" cy="98280"/>
                  </a:xfrm>
                </p:grpSpPr>
                <p:grpSp>
                  <p:nvGrpSpPr>
                    <p:cNvPr id="909" name=""/>
                    <p:cNvGrpSpPr/>
                    <p:nvPr/>
                  </p:nvGrpSpPr>
                  <p:grpSpPr>
                    <a:xfrm>
                      <a:off x="1441080" y="5636160"/>
                      <a:ext cx="595440" cy="98280"/>
                      <a:chOff x="1441080" y="5636160"/>
                      <a:chExt cx="595440" cy="98280"/>
                    </a:xfrm>
                  </p:grpSpPr>
                  <p:sp>
                    <p:nvSpPr>
                      <p:cNvPr id="910" name=""/>
                      <p:cNvSpPr/>
                      <p:nvPr/>
                    </p:nvSpPr>
                    <p:spPr>
                      <a:xfrm>
                        <a:off x="144108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>
                        <a:off x="173880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12" name=""/>
                    <p:cNvGrpSpPr/>
                    <p:nvPr/>
                  </p:nvGrpSpPr>
                  <p:grpSpPr>
                    <a:xfrm>
                      <a:off x="2036520" y="5636160"/>
                      <a:ext cx="595440" cy="98280"/>
                      <a:chOff x="2036520" y="5636160"/>
                      <a:chExt cx="595440" cy="98280"/>
                    </a:xfrm>
                  </p:grpSpPr>
                  <p:sp>
                    <p:nvSpPr>
                      <p:cNvPr id="913" name=""/>
                      <p:cNvSpPr/>
                      <p:nvPr/>
                    </p:nvSpPr>
                    <p:spPr>
                      <a:xfrm>
                        <a:off x="203652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233424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15" name=""/>
                    <p:cNvGrpSpPr/>
                    <p:nvPr/>
                  </p:nvGrpSpPr>
                  <p:grpSpPr>
                    <a:xfrm>
                      <a:off x="2631960" y="5636160"/>
                      <a:ext cx="595440" cy="98280"/>
                      <a:chOff x="2631960" y="5636160"/>
                      <a:chExt cx="595440" cy="98280"/>
                    </a:xfrm>
                  </p:grpSpPr>
                  <p:sp>
                    <p:nvSpPr>
                      <p:cNvPr id="916" name=""/>
                      <p:cNvSpPr/>
                      <p:nvPr/>
                    </p:nvSpPr>
                    <p:spPr>
                      <a:xfrm>
                        <a:off x="263196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7" name=""/>
                      <p:cNvSpPr/>
                      <p:nvPr/>
                    </p:nvSpPr>
                    <p:spPr>
                      <a:xfrm>
                        <a:off x="292968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18" name=""/>
                    <p:cNvGrpSpPr/>
                    <p:nvPr/>
                  </p:nvGrpSpPr>
                  <p:grpSpPr>
                    <a:xfrm>
                      <a:off x="3227760" y="5636160"/>
                      <a:ext cx="595440" cy="98280"/>
                      <a:chOff x="3227760" y="5636160"/>
                      <a:chExt cx="595440" cy="98280"/>
                    </a:xfrm>
                  </p:grpSpPr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322776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352548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21" name=""/>
                    <p:cNvGrpSpPr/>
                    <p:nvPr/>
                  </p:nvGrpSpPr>
                  <p:grpSpPr>
                    <a:xfrm>
                      <a:off x="3823560" y="5636160"/>
                      <a:ext cx="595440" cy="98280"/>
                      <a:chOff x="3823560" y="5636160"/>
                      <a:chExt cx="595440" cy="98280"/>
                    </a:xfrm>
                  </p:grpSpPr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382356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412128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24" name=""/>
                  <p:cNvGrpSpPr/>
                  <p:nvPr/>
                </p:nvGrpSpPr>
                <p:grpSpPr>
                  <a:xfrm>
                    <a:off x="4419360" y="5636160"/>
                    <a:ext cx="2977920" cy="98280"/>
                    <a:chOff x="4419360" y="5636160"/>
                    <a:chExt cx="2977920" cy="98280"/>
                  </a:xfrm>
                </p:grpSpPr>
                <p:grpSp>
                  <p:nvGrpSpPr>
                    <p:cNvPr id="925" name=""/>
                    <p:cNvGrpSpPr/>
                    <p:nvPr/>
                  </p:nvGrpSpPr>
                  <p:grpSpPr>
                    <a:xfrm>
                      <a:off x="4419360" y="5636160"/>
                      <a:ext cx="595440" cy="98280"/>
                      <a:chOff x="4419360" y="5636160"/>
                      <a:chExt cx="595440" cy="98280"/>
                    </a:xfrm>
                  </p:grpSpPr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441936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471708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28" name=""/>
                    <p:cNvGrpSpPr/>
                    <p:nvPr/>
                  </p:nvGrpSpPr>
                  <p:grpSpPr>
                    <a:xfrm>
                      <a:off x="5014800" y="5636160"/>
                      <a:ext cx="595440" cy="98280"/>
                      <a:chOff x="5014800" y="5636160"/>
                      <a:chExt cx="595440" cy="98280"/>
                    </a:xfrm>
                  </p:grpSpPr>
                  <p:sp>
                    <p:nvSpPr>
                      <p:cNvPr id="929" name=""/>
                      <p:cNvSpPr/>
                      <p:nvPr/>
                    </p:nvSpPr>
                    <p:spPr>
                      <a:xfrm>
                        <a:off x="501480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0" name=""/>
                      <p:cNvSpPr/>
                      <p:nvPr/>
                    </p:nvSpPr>
                    <p:spPr>
                      <a:xfrm>
                        <a:off x="531252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31" name=""/>
                    <p:cNvGrpSpPr/>
                    <p:nvPr/>
                  </p:nvGrpSpPr>
                  <p:grpSpPr>
                    <a:xfrm>
                      <a:off x="5610240" y="5636160"/>
                      <a:ext cx="595440" cy="98280"/>
                      <a:chOff x="5610240" y="5636160"/>
                      <a:chExt cx="595440" cy="98280"/>
                    </a:xfrm>
                  </p:grpSpPr>
                  <p:sp>
                    <p:nvSpPr>
                      <p:cNvPr id="932" name=""/>
                      <p:cNvSpPr/>
                      <p:nvPr/>
                    </p:nvSpPr>
                    <p:spPr>
                      <a:xfrm>
                        <a:off x="561024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3" name=""/>
                      <p:cNvSpPr/>
                      <p:nvPr/>
                    </p:nvSpPr>
                    <p:spPr>
                      <a:xfrm>
                        <a:off x="590796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34" name=""/>
                    <p:cNvGrpSpPr/>
                    <p:nvPr/>
                  </p:nvGrpSpPr>
                  <p:grpSpPr>
                    <a:xfrm>
                      <a:off x="6206040" y="5636160"/>
                      <a:ext cx="595440" cy="98280"/>
                      <a:chOff x="6206040" y="5636160"/>
                      <a:chExt cx="595440" cy="98280"/>
                    </a:xfrm>
                  </p:grpSpPr>
                  <p:sp>
                    <p:nvSpPr>
                      <p:cNvPr id="935" name=""/>
                      <p:cNvSpPr/>
                      <p:nvPr/>
                    </p:nvSpPr>
                    <p:spPr>
                      <a:xfrm>
                        <a:off x="620604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6" name=""/>
                      <p:cNvSpPr/>
                      <p:nvPr/>
                    </p:nvSpPr>
                    <p:spPr>
                      <a:xfrm>
                        <a:off x="650376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37" name=""/>
                    <p:cNvGrpSpPr/>
                    <p:nvPr/>
                  </p:nvGrpSpPr>
                  <p:grpSpPr>
                    <a:xfrm>
                      <a:off x="6801840" y="5636160"/>
                      <a:ext cx="595440" cy="98280"/>
                      <a:chOff x="6801840" y="5636160"/>
                      <a:chExt cx="595440" cy="98280"/>
                    </a:xfrm>
                  </p:grpSpPr>
                  <p:sp>
                    <p:nvSpPr>
                      <p:cNvPr id="938" name=""/>
                      <p:cNvSpPr/>
                      <p:nvPr/>
                    </p:nvSpPr>
                    <p:spPr>
                      <a:xfrm>
                        <a:off x="680184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9" name=""/>
                      <p:cNvSpPr/>
                      <p:nvPr/>
                    </p:nvSpPr>
                    <p:spPr>
                      <a:xfrm>
                        <a:off x="7099560" y="5636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40" name=""/>
                  <p:cNvSpPr/>
                  <p:nvPr/>
                </p:nvSpPr>
                <p:spPr>
                  <a:xfrm>
                    <a:off x="5610960" y="543996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7100280" y="543996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120920" y="5439960"/>
                    <a:ext cx="59616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2631960" y="543996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1143000" y="5439960"/>
                    <a:ext cx="595440" cy="196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 flipV="1">
                    <a:off x="4419360" y="5538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V="1">
                    <a:off x="2930040" y="5538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V="1">
                    <a:off x="1441080" y="5538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V="1">
                    <a:off x="5908320" y="5538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V="1">
                    <a:off x="7397640" y="5538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0" name=""/>
                <p:cNvSpPr/>
                <p:nvPr/>
              </p:nvSpPr>
              <p:spPr>
                <a:xfrm>
                  <a:off x="1410120" y="5144040"/>
                  <a:ext cx="6017760" cy="22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 Доступность качественной медицинской помощ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1143000" y="5810040"/>
                <a:ext cx="6552720" cy="590400"/>
                <a:chOff x="1143000" y="5810040"/>
                <a:chExt cx="6552720" cy="590400"/>
              </a:xfrm>
            </p:grpSpPr>
            <p:grpSp>
              <p:nvGrpSpPr>
                <p:cNvPr id="952" name=""/>
                <p:cNvGrpSpPr/>
                <p:nvPr/>
              </p:nvGrpSpPr>
              <p:grpSpPr>
                <a:xfrm>
                  <a:off x="1143000" y="6105960"/>
                  <a:ext cx="6552720" cy="294480"/>
                  <a:chOff x="1143000" y="6105960"/>
                  <a:chExt cx="6552720" cy="294480"/>
                </a:xfrm>
              </p:grpSpPr>
              <p:grpSp>
                <p:nvGrpSpPr>
                  <p:cNvPr id="953" name=""/>
                  <p:cNvGrpSpPr/>
                  <p:nvPr/>
                </p:nvGrpSpPr>
                <p:grpSpPr>
                  <a:xfrm>
                    <a:off x="1441080" y="6302160"/>
                    <a:ext cx="2977920" cy="98280"/>
                    <a:chOff x="1441080" y="6302160"/>
                    <a:chExt cx="2977920" cy="98280"/>
                  </a:xfrm>
                </p:grpSpPr>
                <p:grpSp>
                  <p:nvGrpSpPr>
                    <p:cNvPr id="954" name=""/>
                    <p:cNvGrpSpPr/>
                    <p:nvPr/>
                  </p:nvGrpSpPr>
                  <p:grpSpPr>
                    <a:xfrm>
                      <a:off x="1441080" y="6302160"/>
                      <a:ext cx="595440" cy="98280"/>
                      <a:chOff x="1441080" y="6302160"/>
                      <a:chExt cx="595440" cy="98280"/>
                    </a:xfrm>
                  </p:grpSpPr>
                  <p:sp>
                    <p:nvSpPr>
                      <p:cNvPr id="955" name=""/>
                      <p:cNvSpPr/>
                      <p:nvPr/>
                    </p:nvSpPr>
                    <p:spPr>
                      <a:xfrm>
                        <a:off x="144108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6" name=""/>
                      <p:cNvSpPr/>
                      <p:nvPr/>
                    </p:nvSpPr>
                    <p:spPr>
                      <a:xfrm>
                        <a:off x="173880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7" name=""/>
                    <p:cNvGrpSpPr/>
                    <p:nvPr/>
                  </p:nvGrpSpPr>
                  <p:grpSpPr>
                    <a:xfrm>
                      <a:off x="2036520" y="6302160"/>
                      <a:ext cx="595440" cy="98280"/>
                      <a:chOff x="2036520" y="6302160"/>
                      <a:chExt cx="595440" cy="98280"/>
                    </a:xfrm>
                  </p:grpSpPr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203652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233424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0" name=""/>
                    <p:cNvGrpSpPr/>
                    <p:nvPr/>
                  </p:nvGrpSpPr>
                  <p:grpSpPr>
                    <a:xfrm>
                      <a:off x="2631960" y="6302160"/>
                      <a:ext cx="595440" cy="98280"/>
                      <a:chOff x="2631960" y="6302160"/>
                      <a:chExt cx="595440" cy="98280"/>
                    </a:xfrm>
                  </p:grpSpPr>
                  <p:sp>
                    <p:nvSpPr>
                      <p:cNvPr id="961" name=""/>
                      <p:cNvSpPr/>
                      <p:nvPr/>
                    </p:nvSpPr>
                    <p:spPr>
                      <a:xfrm>
                        <a:off x="263196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>
                        <a:off x="292968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3" name=""/>
                    <p:cNvGrpSpPr/>
                    <p:nvPr/>
                  </p:nvGrpSpPr>
                  <p:grpSpPr>
                    <a:xfrm>
                      <a:off x="3227760" y="6302160"/>
                      <a:ext cx="595440" cy="98280"/>
                      <a:chOff x="3227760" y="6302160"/>
                      <a:chExt cx="595440" cy="98280"/>
                    </a:xfrm>
                  </p:grpSpPr>
                  <p:sp>
                    <p:nvSpPr>
                      <p:cNvPr id="964" name=""/>
                      <p:cNvSpPr/>
                      <p:nvPr/>
                    </p:nvSpPr>
                    <p:spPr>
                      <a:xfrm>
                        <a:off x="322776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352548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3823560" y="6302160"/>
                      <a:ext cx="595440" cy="98280"/>
                      <a:chOff x="3823560" y="6302160"/>
                      <a:chExt cx="595440" cy="98280"/>
                    </a:xfrm>
                  </p:grpSpPr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382356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8" name=""/>
                      <p:cNvSpPr/>
                      <p:nvPr/>
                    </p:nvSpPr>
                    <p:spPr>
                      <a:xfrm>
                        <a:off x="412128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4419360" y="6302160"/>
                    <a:ext cx="2977920" cy="98280"/>
                    <a:chOff x="4419360" y="6302160"/>
                    <a:chExt cx="2977920" cy="98280"/>
                  </a:xfrm>
                </p:grpSpPr>
                <p:grpSp>
                  <p:nvGrpSpPr>
                    <p:cNvPr id="970" name=""/>
                    <p:cNvGrpSpPr/>
                    <p:nvPr/>
                  </p:nvGrpSpPr>
                  <p:grpSpPr>
                    <a:xfrm>
                      <a:off x="4419360" y="6302160"/>
                      <a:ext cx="595440" cy="98280"/>
                      <a:chOff x="4419360" y="6302160"/>
                      <a:chExt cx="595440" cy="98280"/>
                    </a:xfrm>
                  </p:grpSpPr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441936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471708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3" name=""/>
                    <p:cNvGrpSpPr/>
                    <p:nvPr/>
                  </p:nvGrpSpPr>
                  <p:grpSpPr>
                    <a:xfrm>
                      <a:off x="5014800" y="6302160"/>
                      <a:ext cx="595440" cy="98280"/>
                      <a:chOff x="5014800" y="6302160"/>
                      <a:chExt cx="595440" cy="98280"/>
                    </a:xfrm>
                  </p:grpSpPr>
                  <p:sp>
                    <p:nvSpPr>
                      <p:cNvPr id="974" name=""/>
                      <p:cNvSpPr/>
                      <p:nvPr/>
                    </p:nvSpPr>
                    <p:spPr>
                      <a:xfrm>
                        <a:off x="501480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5" name=""/>
                      <p:cNvSpPr/>
                      <p:nvPr/>
                    </p:nvSpPr>
                    <p:spPr>
                      <a:xfrm>
                        <a:off x="531252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5610240" y="6302160"/>
                      <a:ext cx="595440" cy="98280"/>
                      <a:chOff x="5610240" y="6302160"/>
                      <a:chExt cx="595440" cy="98280"/>
                    </a:xfrm>
                  </p:grpSpPr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561024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>
                        <a:off x="590796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79" name=""/>
                    <p:cNvGrpSpPr/>
                    <p:nvPr/>
                  </p:nvGrpSpPr>
                  <p:grpSpPr>
                    <a:xfrm>
                      <a:off x="6206040" y="6302160"/>
                      <a:ext cx="595440" cy="98280"/>
                      <a:chOff x="6206040" y="6302160"/>
                      <a:chExt cx="595440" cy="98280"/>
                    </a:xfrm>
                  </p:grpSpPr>
                  <p:sp>
                    <p:nvSpPr>
                      <p:cNvPr id="980" name=""/>
                      <p:cNvSpPr/>
                      <p:nvPr/>
                    </p:nvSpPr>
                    <p:spPr>
                      <a:xfrm>
                        <a:off x="620604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650376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6801840" y="6302160"/>
                      <a:ext cx="595440" cy="98280"/>
                      <a:chOff x="6801840" y="6302160"/>
                      <a:chExt cx="595440" cy="98280"/>
                    </a:xfrm>
                  </p:grpSpPr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680184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7099560" y="6302160"/>
                        <a:ext cx="297720" cy="982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85" name=""/>
                  <p:cNvSpPr/>
                  <p:nvPr/>
                </p:nvSpPr>
                <p:spPr>
                  <a:xfrm>
                    <a:off x="5610960" y="610596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7100280" y="610596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+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4120920" y="6105960"/>
                    <a:ext cx="59616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2631960" y="6105960"/>
                    <a:ext cx="595440" cy="196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0,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143000" y="6105960"/>
                    <a:ext cx="595440" cy="196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-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V="1">
                    <a:off x="4419360" y="6204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V="1">
                    <a:off x="2930040" y="6204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V="1">
                    <a:off x="1441080" y="6204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V="1">
                    <a:off x="5908320" y="6204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V="1">
                    <a:off x="7397640" y="6204240"/>
                    <a:ext cx="0" cy="9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5" name=""/>
                <p:cNvSpPr/>
                <p:nvPr/>
              </p:nvSpPr>
              <p:spPr>
                <a:xfrm>
                  <a:off x="1410120" y="5810040"/>
                  <a:ext cx="6017760" cy="22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. Производственный и бытовой травматизм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6" name=""/>
          <p:cNvSpPr/>
          <p:nvPr/>
        </p:nvSpPr>
        <p:spPr>
          <a:xfrm>
            <a:off x="533520" y="380880"/>
            <a:ext cx="82296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120" rIns="2268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ОСНАЯ КАРТА ЭКСПЕ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ТЕ ТЕКУЩУЮ И ПРОГНОЗНУЮ ОЦЕНКУ ДЕМ0ГРАФИЧЕСКОЙ СИТУАЦИИ И СОСТОЯНИЯ ЗДОРОВЬЯ НАСЕЛЕНИЯ ВАШЕГО ГОРОДА (МУНИЦИПАЛЬНОГО ОБРАЗОВАНИЯ) ПО ПОКАЗАТЕЛ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-495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"/>
          <p:cNvGrpSpPr/>
          <p:nvPr/>
        </p:nvGrpSpPr>
        <p:grpSpPr>
          <a:xfrm>
            <a:off x="2133720" y="2057400"/>
            <a:ext cx="5789880" cy="3657240"/>
            <a:chOff x="2133720" y="2057400"/>
            <a:chExt cx="5789880" cy="3657240"/>
          </a:xfrm>
        </p:grpSpPr>
        <p:grpSp>
          <p:nvGrpSpPr>
            <p:cNvPr id="1000" name=""/>
            <p:cNvGrpSpPr/>
            <p:nvPr/>
          </p:nvGrpSpPr>
          <p:grpSpPr>
            <a:xfrm>
              <a:off x="2133720" y="2057400"/>
              <a:ext cx="1124280" cy="365400"/>
              <a:chOff x="2133720" y="2057400"/>
              <a:chExt cx="1124280" cy="365400"/>
            </a:xfrm>
          </p:grpSpPr>
          <p:sp>
            <p:nvSpPr>
              <p:cNvPr id="1001" name=""/>
              <p:cNvSpPr/>
              <p:nvPr/>
            </p:nvSpPr>
            <p:spPr>
              <a:xfrm>
                <a:off x="2133720" y="205740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133720" y="205740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3258360" y="2057400"/>
              <a:ext cx="1124280" cy="365400"/>
              <a:chOff x="3258360" y="2057400"/>
              <a:chExt cx="1124280" cy="365400"/>
            </a:xfrm>
          </p:grpSpPr>
          <p:sp>
            <p:nvSpPr>
              <p:cNvPr id="1004" name=""/>
              <p:cNvSpPr/>
              <p:nvPr/>
            </p:nvSpPr>
            <p:spPr>
              <a:xfrm>
                <a:off x="3258360" y="205740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258360" y="205740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4383360" y="2057400"/>
              <a:ext cx="1124280" cy="365400"/>
              <a:chOff x="4383360" y="2057400"/>
              <a:chExt cx="1124280" cy="365400"/>
            </a:xfrm>
          </p:grpSpPr>
          <p:sp>
            <p:nvSpPr>
              <p:cNvPr id="1007" name=""/>
              <p:cNvSpPr/>
              <p:nvPr/>
            </p:nvSpPr>
            <p:spPr>
              <a:xfrm>
                <a:off x="4383360" y="205740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383360" y="205740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5508000" y="2057400"/>
              <a:ext cx="1290600" cy="365400"/>
              <a:chOff x="5508000" y="2057400"/>
              <a:chExt cx="1290600" cy="365400"/>
            </a:xfrm>
          </p:grpSpPr>
          <p:sp>
            <p:nvSpPr>
              <p:cNvPr id="1010" name=""/>
              <p:cNvSpPr/>
              <p:nvPr/>
            </p:nvSpPr>
            <p:spPr>
              <a:xfrm>
                <a:off x="5508000" y="2057400"/>
                <a:ext cx="12906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Times New Roman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08000" y="2057400"/>
                <a:ext cx="129060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6799320" y="2057400"/>
              <a:ext cx="1124280" cy="365400"/>
              <a:chOff x="6799320" y="2057400"/>
              <a:chExt cx="1124280" cy="365400"/>
            </a:xfrm>
          </p:grpSpPr>
          <p:sp>
            <p:nvSpPr>
              <p:cNvPr id="1013" name=""/>
              <p:cNvSpPr/>
              <p:nvPr/>
            </p:nvSpPr>
            <p:spPr>
              <a:xfrm>
                <a:off x="6799320" y="205740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Times New Roman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799320" y="205740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2133720" y="2422800"/>
              <a:ext cx="1124280" cy="365760"/>
              <a:chOff x="2133720" y="2422800"/>
              <a:chExt cx="1124280" cy="365760"/>
            </a:xfrm>
          </p:grpSpPr>
          <p:sp>
            <p:nvSpPr>
              <p:cNvPr id="1016" name=""/>
              <p:cNvSpPr/>
              <p:nvPr/>
            </p:nvSpPr>
            <p:spPr>
              <a:xfrm>
                <a:off x="2133720" y="242280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</a:rPr>
                  <a:t>.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133720" y="242280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3258360" y="2422800"/>
              <a:ext cx="1124280" cy="365760"/>
              <a:chOff x="3258360" y="2422800"/>
              <a:chExt cx="1124280" cy="365760"/>
            </a:xfrm>
          </p:grpSpPr>
          <p:sp>
            <p:nvSpPr>
              <p:cNvPr id="1019" name=""/>
              <p:cNvSpPr/>
              <p:nvPr/>
            </p:nvSpPr>
            <p:spPr>
              <a:xfrm>
                <a:off x="3258360" y="242280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258360" y="242280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4383360" y="2422800"/>
              <a:ext cx="1124280" cy="365760"/>
              <a:chOff x="4383360" y="2422800"/>
              <a:chExt cx="1124280" cy="365760"/>
            </a:xfrm>
          </p:grpSpPr>
          <p:sp>
            <p:nvSpPr>
              <p:cNvPr id="1022" name=""/>
              <p:cNvSpPr/>
              <p:nvPr/>
            </p:nvSpPr>
            <p:spPr>
              <a:xfrm>
                <a:off x="4383360" y="242280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383360" y="242280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5508000" y="2422800"/>
              <a:ext cx="1290600" cy="365760"/>
              <a:chOff x="5508000" y="2422800"/>
              <a:chExt cx="1290600" cy="365760"/>
            </a:xfrm>
          </p:grpSpPr>
          <p:sp>
            <p:nvSpPr>
              <p:cNvPr id="1025" name=""/>
              <p:cNvSpPr/>
              <p:nvPr/>
            </p:nvSpPr>
            <p:spPr>
              <a:xfrm>
                <a:off x="5508000" y="2422800"/>
                <a:ext cx="12906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508000" y="2422800"/>
                <a:ext cx="129060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6799320" y="2422800"/>
              <a:ext cx="1124280" cy="365760"/>
              <a:chOff x="6799320" y="2422800"/>
              <a:chExt cx="1124280" cy="365760"/>
            </a:xfrm>
          </p:grpSpPr>
          <p:sp>
            <p:nvSpPr>
              <p:cNvPr id="1028" name=""/>
              <p:cNvSpPr/>
              <p:nvPr/>
            </p:nvSpPr>
            <p:spPr>
              <a:xfrm>
                <a:off x="6799320" y="242280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799320" y="242280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133720" y="2788920"/>
              <a:ext cx="1124280" cy="365400"/>
              <a:chOff x="2133720" y="2788920"/>
              <a:chExt cx="1124280" cy="365400"/>
            </a:xfrm>
          </p:grpSpPr>
          <p:sp>
            <p:nvSpPr>
              <p:cNvPr id="1031" name=""/>
              <p:cNvSpPr/>
              <p:nvPr/>
            </p:nvSpPr>
            <p:spPr>
              <a:xfrm>
                <a:off x="2133720" y="278892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</a:rPr>
                  <a:t>.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133720" y="278892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3258360" y="2788920"/>
              <a:ext cx="1124280" cy="365400"/>
              <a:chOff x="3258360" y="2788920"/>
              <a:chExt cx="1124280" cy="365400"/>
            </a:xfrm>
          </p:grpSpPr>
          <p:sp>
            <p:nvSpPr>
              <p:cNvPr id="1034" name=""/>
              <p:cNvSpPr/>
              <p:nvPr/>
            </p:nvSpPr>
            <p:spPr>
              <a:xfrm>
                <a:off x="3258360" y="278892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,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258360" y="278892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383360" y="2788920"/>
              <a:ext cx="1124280" cy="365400"/>
              <a:chOff x="4383360" y="2788920"/>
              <a:chExt cx="1124280" cy="365400"/>
            </a:xfrm>
          </p:grpSpPr>
          <p:sp>
            <p:nvSpPr>
              <p:cNvPr id="1037" name=""/>
              <p:cNvSpPr/>
              <p:nvPr/>
            </p:nvSpPr>
            <p:spPr>
              <a:xfrm>
                <a:off x="4383360" y="278892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,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383360" y="278892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508000" y="2788920"/>
              <a:ext cx="1290600" cy="365400"/>
              <a:chOff x="5508000" y="2788920"/>
              <a:chExt cx="1290600" cy="365400"/>
            </a:xfrm>
          </p:grpSpPr>
          <p:sp>
            <p:nvSpPr>
              <p:cNvPr id="1040" name=""/>
              <p:cNvSpPr/>
              <p:nvPr/>
            </p:nvSpPr>
            <p:spPr>
              <a:xfrm>
                <a:off x="5508000" y="2788920"/>
                <a:ext cx="12906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508000" y="2788920"/>
                <a:ext cx="129060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799320" y="2788920"/>
              <a:ext cx="1124280" cy="365400"/>
              <a:chOff x="6799320" y="2788920"/>
              <a:chExt cx="1124280" cy="365400"/>
            </a:xfrm>
          </p:grpSpPr>
          <p:sp>
            <p:nvSpPr>
              <p:cNvPr id="1043" name=""/>
              <p:cNvSpPr/>
              <p:nvPr/>
            </p:nvSpPr>
            <p:spPr>
              <a:xfrm>
                <a:off x="6799320" y="278892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,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799320" y="278892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2133720" y="3154680"/>
              <a:ext cx="1124280" cy="365400"/>
              <a:chOff x="2133720" y="3154680"/>
              <a:chExt cx="1124280" cy="365400"/>
            </a:xfrm>
          </p:grpSpPr>
          <p:sp>
            <p:nvSpPr>
              <p:cNvPr id="1046" name=""/>
              <p:cNvSpPr/>
              <p:nvPr/>
            </p:nvSpPr>
            <p:spPr>
              <a:xfrm>
                <a:off x="2133720" y="315468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</a:rPr>
                  <a:t>.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133720" y="315468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3258360" y="3154680"/>
              <a:ext cx="1124280" cy="365400"/>
              <a:chOff x="3258360" y="3154680"/>
              <a:chExt cx="1124280" cy="365400"/>
            </a:xfrm>
          </p:grpSpPr>
          <p:sp>
            <p:nvSpPr>
              <p:cNvPr id="1049" name=""/>
              <p:cNvSpPr/>
              <p:nvPr/>
            </p:nvSpPr>
            <p:spPr>
              <a:xfrm>
                <a:off x="3258360" y="315468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258360" y="315468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4383360" y="3154680"/>
              <a:ext cx="1124280" cy="365400"/>
              <a:chOff x="4383360" y="3154680"/>
              <a:chExt cx="1124280" cy="365400"/>
            </a:xfrm>
          </p:grpSpPr>
          <p:sp>
            <p:nvSpPr>
              <p:cNvPr id="1052" name=""/>
              <p:cNvSpPr/>
              <p:nvPr/>
            </p:nvSpPr>
            <p:spPr>
              <a:xfrm>
                <a:off x="4383360" y="315468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383360" y="315468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5508000" y="3154680"/>
              <a:ext cx="1290600" cy="365400"/>
              <a:chOff x="5508000" y="3154680"/>
              <a:chExt cx="1290600" cy="365400"/>
            </a:xfrm>
          </p:grpSpPr>
          <p:sp>
            <p:nvSpPr>
              <p:cNvPr id="1055" name=""/>
              <p:cNvSpPr/>
              <p:nvPr/>
            </p:nvSpPr>
            <p:spPr>
              <a:xfrm>
                <a:off x="5508000" y="3154680"/>
                <a:ext cx="12906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508000" y="3154680"/>
                <a:ext cx="129060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6799320" y="3154680"/>
              <a:ext cx="1124280" cy="365400"/>
              <a:chOff x="6799320" y="3154680"/>
              <a:chExt cx="1124280" cy="365400"/>
            </a:xfrm>
          </p:grpSpPr>
          <p:sp>
            <p:nvSpPr>
              <p:cNvPr id="1058" name=""/>
              <p:cNvSpPr/>
              <p:nvPr/>
            </p:nvSpPr>
            <p:spPr>
              <a:xfrm>
                <a:off x="6799320" y="315468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799320" y="315468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133720" y="3520440"/>
              <a:ext cx="1124280" cy="365760"/>
              <a:chOff x="2133720" y="3520440"/>
              <a:chExt cx="1124280" cy="365760"/>
            </a:xfrm>
          </p:grpSpPr>
          <p:sp>
            <p:nvSpPr>
              <p:cNvPr id="1061" name=""/>
              <p:cNvSpPr/>
              <p:nvPr/>
            </p:nvSpPr>
            <p:spPr>
              <a:xfrm>
                <a:off x="2133720" y="352044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</a:rPr>
                  <a:t>.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133720" y="352044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3258360" y="3520440"/>
              <a:ext cx="1124280" cy="365760"/>
              <a:chOff x="3258360" y="3520440"/>
              <a:chExt cx="1124280" cy="365760"/>
            </a:xfrm>
          </p:grpSpPr>
          <p:sp>
            <p:nvSpPr>
              <p:cNvPr id="1064" name=""/>
              <p:cNvSpPr/>
              <p:nvPr/>
            </p:nvSpPr>
            <p:spPr>
              <a:xfrm>
                <a:off x="3258360" y="352044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258360" y="352044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4383360" y="3520440"/>
              <a:ext cx="1124280" cy="365760"/>
              <a:chOff x="4383360" y="3520440"/>
              <a:chExt cx="1124280" cy="365760"/>
            </a:xfrm>
          </p:grpSpPr>
          <p:sp>
            <p:nvSpPr>
              <p:cNvPr id="1067" name=""/>
              <p:cNvSpPr/>
              <p:nvPr/>
            </p:nvSpPr>
            <p:spPr>
              <a:xfrm>
                <a:off x="4383360" y="352044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383360" y="352044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5508000" y="3520440"/>
              <a:ext cx="1290600" cy="365760"/>
              <a:chOff x="5508000" y="3520440"/>
              <a:chExt cx="1290600" cy="365760"/>
            </a:xfrm>
          </p:grpSpPr>
          <p:sp>
            <p:nvSpPr>
              <p:cNvPr id="1070" name=""/>
              <p:cNvSpPr/>
              <p:nvPr/>
            </p:nvSpPr>
            <p:spPr>
              <a:xfrm>
                <a:off x="5508000" y="3520440"/>
                <a:ext cx="12906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508000" y="3520440"/>
                <a:ext cx="129060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6799320" y="3520440"/>
              <a:ext cx="1124280" cy="365760"/>
              <a:chOff x="6799320" y="3520440"/>
              <a:chExt cx="1124280" cy="365760"/>
            </a:xfrm>
          </p:grpSpPr>
          <p:sp>
            <p:nvSpPr>
              <p:cNvPr id="1073" name=""/>
              <p:cNvSpPr/>
              <p:nvPr/>
            </p:nvSpPr>
            <p:spPr>
              <a:xfrm>
                <a:off x="6799320" y="352044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799320" y="352044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2133720" y="3886200"/>
              <a:ext cx="1124280" cy="365400"/>
              <a:chOff x="2133720" y="3886200"/>
              <a:chExt cx="1124280" cy="365400"/>
            </a:xfrm>
          </p:grpSpPr>
          <p:sp>
            <p:nvSpPr>
              <p:cNvPr id="1076" name=""/>
              <p:cNvSpPr/>
              <p:nvPr/>
            </p:nvSpPr>
            <p:spPr>
              <a:xfrm>
                <a:off x="2133720" y="388620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</a:rPr>
                  <a:t>.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33720" y="388620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3258360" y="3886200"/>
              <a:ext cx="1124280" cy="365400"/>
              <a:chOff x="3258360" y="3886200"/>
              <a:chExt cx="1124280" cy="365400"/>
            </a:xfrm>
          </p:grpSpPr>
          <p:sp>
            <p:nvSpPr>
              <p:cNvPr id="1079" name=""/>
              <p:cNvSpPr/>
              <p:nvPr/>
            </p:nvSpPr>
            <p:spPr>
              <a:xfrm>
                <a:off x="3258360" y="388620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258360" y="388620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4383360" y="3886200"/>
              <a:ext cx="1124280" cy="365400"/>
              <a:chOff x="4383360" y="3886200"/>
              <a:chExt cx="1124280" cy="365400"/>
            </a:xfrm>
          </p:grpSpPr>
          <p:sp>
            <p:nvSpPr>
              <p:cNvPr id="1082" name=""/>
              <p:cNvSpPr/>
              <p:nvPr/>
            </p:nvSpPr>
            <p:spPr>
              <a:xfrm>
                <a:off x="4383360" y="388620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383360" y="388620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5508000" y="3886200"/>
              <a:ext cx="1290600" cy="365400"/>
              <a:chOff x="5508000" y="3886200"/>
              <a:chExt cx="1290600" cy="365400"/>
            </a:xfrm>
          </p:grpSpPr>
          <p:sp>
            <p:nvSpPr>
              <p:cNvPr id="1085" name=""/>
              <p:cNvSpPr/>
              <p:nvPr/>
            </p:nvSpPr>
            <p:spPr>
              <a:xfrm>
                <a:off x="5508000" y="3886200"/>
                <a:ext cx="12906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08000" y="3886200"/>
                <a:ext cx="129060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6799320" y="3886200"/>
              <a:ext cx="1124280" cy="365400"/>
              <a:chOff x="6799320" y="3886200"/>
              <a:chExt cx="1124280" cy="365400"/>
            </a:xfrm>
          </p:grpSpPr>
          <p:sp>
            <p:nvSpPr>
              <p:cNvPr id="1088" name=""/>
              <p:cNvSpPr/>
              <p:nvPr/>
            </p:nvSpPr>
            <p:spPr>
              <a:xfrm>
                <a:off x="6799320" y="388620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799320" y="388620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2133720" y="4251960"/>
              <a:ext cx="1124280" cy="365400"/>
              <a:chOff x="2133720" y="4251960"/>
              <a:chExt cx="1124280" cy="365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2133720" y="425196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</a:rPr>
                  <a:t>.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133720" y="425196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3258360" y="4251960"/>
              <a:ext cx="1124280" cy="365400"/>
              <a:chOff x="3258360" y="4251960"/>
              <a:chExt cx="1124280" cy="365400"/>
            </a:xfrm>
          </p:grpSpPr>
          <p:sp>
            <p:nvSpPr>
              <p:cNvPr id="1094" name=""/>
              <p:cNvSpPr/>
              <p:nvPr/>
            </p:nvSpPr>
            <p:spPr>
              <a:xfrm>
                <a:off x="3258360" y="425196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258360" y="425196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4383360" y="4251960"/>
              <a:ext cx="1124280" cy="365400"/>
              <a:chOff x="4383360" y="4251960"/>
              <a:chExt cx="1124280" cy="365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4383360" y="425196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383360" y="425196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5508000" y="4251960"/>
              <a:ext cx="1290600" cy="365400"/>
              <a:chOff x="5508000" y="4251960"/>
              <a:chExt cx="1290600" cy="365400"/>
            </a:xfrm>
          </p:grpSpPr>
          <p:sp>
            <p:nvSpPr>
              <p:cNvPr id="1100" name=""/>
              <p:cNvSpPr/>
              <p:nvPr/>
            </p:nvSpPr>
            <p:spPr>
              <a:xfrm>
                <a:off x="5508000" y="4251960"/>
                <a:ext cx="12906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508000" y="4251960"/>
                <a:ext cx="129060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6799320" y="4251960"/>
              <a:ext cx="1124280" cy="365400"/>
              <a:chOff x="6799320" y="4251960"/>
              <a:chExt cx="1124280" cy="365400"/>
            </a:xfrm>
          </p:grpSpPr>
          <p:sp>
            <p:nvSpPr>
              <p:cNvPr id="1103" name=""/>
              <p:cNvSpPr/>
              <p:nvPr/>
            </p:nvSpPr>
            <p:spPr>
              <a:xfrm>
                <a:off x="6799320" y="425196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,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799320" y="425196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2133720" y="4617720"/>
              <a:ext cx="1124280" cy="365760"/>
              <a:chOff x="2133720" y="4617720"/>
              <a:chExt cx="1124280" cy="365760"/>
            </a:xfrm>
          </p:grpSpPr>
          <p:sp>
            <p:nvSpPr>
              <p:cNvPr id="1106" name=""/>
              <p:cNvSpPr/>
              <p:nvPr/>
            </p:nvSpPr>
            <p:spPr>
              <a:xfrm>
                <a:off x="2133720" y="461772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</a:rPr>
                  <a:t>.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Black"/>
                  </a:rPr>
                  <a:t>1.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33720" y="461772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3258360" y="4617720"/>
              <a:ext cx="1124280" cy="365760"/>
              <a:chOff x="3258360" y="4617720"/>
              <a:chExt cx="1124280" cy="365760"/>
            </a:xfrm>
          </p:grpSpPr>
          <p:sp>
            <p:nvSpPr>
              <p:cNvPr id="1109" name=""/>
              <p:cNvSpPr/>
              <p:nvPr/>
            </p:nvSpPr>
            <p:spPr>
              <a:xfrm>
                <a:off x="3258360" y="461772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,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258360" y="461772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4383360" y="4617720"/>
              <a:ext cx="1124280" cy="365760"/>
              <a:chOff x="4383360" y="4617720"/>
              <a:chExt cx="1124280" cy="365760"/>
            </a:xfrm>
          </p:grpSpPr>
          <p:sp>
            <p:nvSpPr>
              <p:cNvPr id="1112" name=""/>
              <p:cNvSpPr/>
              <p:nvPr/>
            </p:nvSpPr>
            <p:spPr>
              <a:xfrm>
                <a:off x="4383360" y="461772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383360" y="461772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5508000" y="4617720"/>
              <a:ext cx="1290600" cy="365760"/>
              <a:chOff x="5508000" y="4617720"/>
              <a:chExt cx="1290600" cy="365760"/>
            </a:xfrm>
          </p:grpSpPr>
          <p:sp>
            <p:nvSpPr>
              <p:cNvPr id="1115" name=""/>
              <p:cNvSpPr/>
              <p:nvPr/>
            </p:nvSpPr>
            <p:spPr>
              <a:xfrm>
                <a:off x="5508000" y="4617720"/>
                <a:ext cx="12906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508000" y="4617720"/>
                <a:ext cx="129060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6799320" y="4617720"/>
              <a:ext cx="1124280" cy="365760"/>
              <a:chOff x="6799320" y="4617720"/>
              <a:chExt cx="1124280" cy="365760"/>
            </a:xfrm>
          </p:grpSpPr>
          <p:sp>
            <p:nvSpPr>
              <p:cNvPr id="1118" name=""/>
              <p:cNvSpPr/>
              <p:nvPr/>
            </p:nvSpPr>
            <p:spPr>
              <a:xfrm>
                <a:off x="6799320" y="4617720"/>
                <a:ext cx="112428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799320" y="4617720"/>
                <a:ext cx="1124280" cy="36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2133720" y="4983480"/>
              <a:ext cx="1124280" cy="365400"/>
              <a:chOff x="2133720" y="4983480"/>
              <a:chExt cx="1124280" cy="365400"/>
            </a:xfrm>
          </p:grpSpPr>
          <p:sp>
            <p:nvSpPr>
              <p:cNvPr id="1121" name=""/>
              <p:cNvSpPr/>
              <p:nvPr/>
            </p:nvSpPr>
            <p:spPr>
              <a:xfrm>
                <a:off x="2133720" y="498348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Black"/>
                  </a:rPr>
                  <a:t>Код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133720" y="498348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3258360" y="4983480"/>
              <a:ext cx="1124280" cy="365400"/>
              <a:chOff x="3258360" y="4983480"/>
              <a:chExt cx="1124280" cy="365400"/>
            </a:xfrm>
          </p:grpSpPr>
          <p:sp>
            <p:nvSpPr>
              <p:cNvPr id="1124" name=""/>
              <p:cNvSpPr/>
              <p:nvPr/>
            </p:nvSpPr>
            <p:spPr>
              <a:xfrm>
                <a:off x="3258360" y="498348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258360" y="498348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4383360" y="4983480"/>
              <a:ext cx="1124280" cy="365400"/>
              <a:chOff x="4383360" y="4983480"/>
              <a:chExt cx="1124280" cy="365400"/>
            </a:xfrm>
          </p:grpSpPr>
          <p:sp>
            <p:nvSpPr>
              <p:cNvPr id="1127" name=""/>
              <p:cNvSpPr/>
              <p:nvPr/>
            </p:nvSpPr>
            <p:spPr>
              <a:xfrm>
                <a:off x="4383360" y="498348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383360" y="498348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5508000" y="4983480"/>
              <a:ext cx="1290600" cy="365400"/>
              <a:chOff x="5508000" y="4983480"/>
              <a:chExt cx="1290600" cy="365400"/>
            </a:xfrm>
          </p:grpSpPr>
          <p:sp>
            <p:nvSpPr>
              <p:cNvPr id="1130" name=""/>
              <p:cNvSpPr/>
              <p:nvPr/>
            </p:nvSpPr>
            <p:spPr>
              <a:xfrm>
                <a:off x="5508000" y="4983480"/>
                <a:ext cx="12906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508000" y="4983480"/>
                <a:ext cx="129060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6799320" y="4983480"/>
              <a:ext cx="1124280" cy="365400"/>
              <a:chOff x="6799320" y="4983480"/>
              <a:chExt cx="1124280" cy="365400"/>
            </a:xfrm>
          </p:grpSpPr>
          <p:sp>
            <p:nvSpPr>
              <p:cNvPr id="1133" name=""/>
              <p:cNvSpPr/>
              <p:nvPr/>
            </p:nvSpPr>
            <p:spPr>
              <a:xfrm>
                <a:off x="6799320" y="498348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799320" y="498348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2133720" y="5349240"/>
              <a:ext cx="1124280" cy="365400"/>
              <a:chOff x="2133720" y="5349240"/>
              <a:chExt cx="1124280" cy="365400"/>
            </a:xfrm>
          </p:grpSpPr>
          <p:sp>
            <p:nvSpPr>
              <p:cNvPr id="1136" name=""/>
              <p:cNvSpPr/>
              <p:nvPr/>
            </p:nvSpPr>
            <p:spPr>
              <a:xfrm>
                <a:off x="2133720" y="534924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Times New Roman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133720" y="534924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3258360" y="5349240"/>
              <a:ext cx="1124280" cy="365400"/>
              <a:chOff x="3258360" y="5349240"/>
              <a:chExt cx="1124280" cy="365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3258360" y="534924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258360" y="534924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4383360" y="5349240"/>
              <a:ext cx="1124280" cy="365400"/>
              <a:chOff x="4383360" y="5349240"/>
              <a:chExt cx="1124280" cy="365400"/>
            </a:xfrm>
          </p:grpSpPr>
          <p:sp>
            <p:nvSpPr>
              <p:cNvPr id="1142" name=""/>
              <p:cNvSpPr/>
              <p:nvPr/>
            </p:nvSpPr>
            <p:spPr>
              <a:xfrm>
                <a:off x="4383360" y="534924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4383360" y="534924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5508000" y="5349240"/>
              <a:ext cx="1290600" cy="365400"/>
              <a:chOff x="5508000" y="5349240"/>
              <a:chExt cx="1290600" cy="365400"/>
            </a:xfrm>
          </p:grpSpPr>
          <p:sp>
            <p:nvSpPr>
              <p:cNvPr id="1145" name=""/>
              <p:cNvSpPr/>
              <p:nvPr/>
            </p:nvSpPr>
            <p:spPr>
              <a:xfrm>
                <a:off x="5508000" y="5349240"/>
                <a:ext cx="129060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-0,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08000" y="5349240"/>
                <a:ext cx="129060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6799320" y="5349240"/>
              <a:ext cx="1124280" cy="365400"/>
              <a:chOff x="6799320" y="5349240"/>
              <a:chExt cx="1124280" cy="365400"/>
            </a:xfrm>
          </p:grpSpPr>
          <p:sp>
            <p:nvSpPr>
              <p:cNvPr id="1148" name=""/>
              <p:cNvSpPr/>
              <p:nvPr/>
            </p:nvSpPr>
            <p:spPr>
              <a:xfrm>
                <a:off x="6799320" y="5349240"/>
                <a:ext cx="11242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Black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799320" y="5349240"/>
                <a:ext cx="1124280" cy="365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0" name=""/>
          <p:cNvSpPr/>
          <p:nvPr/>
        </p:nvSpPr>
        <p:spPr>
          <a:xfrm>
            <a:off x="228600" y="510552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1, 1.2, …, 1.8 – критерии оценки показателя демографической ситуации (код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867280" y="167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Таблица</a:t>
            </a:r>
            <a:r>
              <a:rPr b="1" lang="en-US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динамики</a:t>
            </a:r>
            <a:r>
              <a:rPr b="1" lang="en-US" sz="20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демографической ситуации и состояния здоровья (код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239076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838080" y="1295280"/>
          <a:ext cx="7467840" cy="41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46784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"/>
          <p:cNvSpPr/>
          <p:nvPr/>
        </p:nvSpPr>
        <p:spPr>
          <a:xfrm>
            <a:off x="4191480" y="5715000"/>
            <a:ext cx="28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-Текущая ситу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-Прогн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676520" y="5029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   1.2     1.3    1.4    1.5    1.6      1.7     1.8   код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33920" y="5791320"/>
            <a:ext cx="380880" cy="304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733920" y="6248520"/>
            <a:ext cx="38088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Гистограмма динамики демографической ситуации и состояния здоровья (код 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523880" y="2819520"/>
            <a:ext cx="655344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238140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3" name=""/>
          <p:cNvGraphicFramePr/>
          <p:nvPr/>
        </p:nvGraphicFramePr>
        <p:xfrm>
          <a:off x="533520" y="1143000"/>
          <a:ext cx="769608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960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5" name=""/>
          <p:cNvSpPr/>
          <p:nvPr/>
        </p:nvSpPr>
        <p:spPr>
          <a:xfrm>
            <a:off x="1371600" y="5562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   1.2    1.3    1.4    1.5    1.6    1.7    1.8    код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716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924680" y="3200400"/>
            <a:ext cx="4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Экспертный прогноз развития демографической ситуации и состояния здоровья (код 1)</a:t>
            </a: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(0 – текущее состоя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295280" y="2666880"/>
            <a:ext cx="6096240" cy="0"/>
          </a:xfrm>
          <a:prstGeom prst="line">
            <a:avLst/>
          </a:prstGeom>
          <a:ln w="73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09:26:23Z</dcterms:created>
  <dc:creator>Кораблин</dc:creator>
  <dc:description/>
  <dc:language>en-US</dc:language>
  <cp:lastModifiedBy>Кораблин</cp:lastModifiedBy>
  <dcterms:modified xsi:type="dcterms:W3CDTF">2004-09-03T08:22:51Z</dcterms:modified>
  <cp:revision>19</cp:revision>
  <dc:subject/>
  <dc:title>Презентация PowerPoint</dc:title>
</cp:coreProperties>
</file>